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chimes.wav" ContentType="audio/x-wav"/>
  <Override PartName="/ppt/media/setup0.wav" ContentType="audio/x-wav"/>
  <Override PartName="/ppt/media/Robotz.%20Error.wav" ContentType="audio/x-wav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comments/comment2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LUIS  VILLARROEL" initials="L V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<Relationship Id="rId39" Type="http://schemas.openxmlformats.org/officeDocument/2006/relationships/commentAuthors" Target="commentAuthors.xml"/>
</Relationships>
</file>

<file path=ppt/comments/comment24.xml><?xml version="1.0" encoding="utf-8"?>
<p:cmLst xmlns:p="http://schemas.openxmlformats.org/presentationml/2006/main">
  <p:cm authorId="0" dt="1996-03-29T05:47:45.040000000" idx="1">
    <p:pos x="65808" y="787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C3F6-5052-406B-B973-8AEA787A3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7F33-EABC-4346-931D-7E2FBEEC1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31D7-6C06-4DD9-A53B-025585516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6B9A-8669-4B97-B93A-D7ECE9EC3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8F9A2-0BF4-496F-A2DE-A450E0A40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43603-5A5F-4EC7-8BC8-A1B1EDFEA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1D205-A78A-455F-91CB-7F8ED7573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4CD73-9889-4D0F-94FC-8367C8A70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89EB6-02F5-46FB-978A-CA480647C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A22F6-F191-4FE4-9474-F2DA2181D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FA94E-A132-4C49-9481-3DC522BE5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4D9E-F91D-4FC3-BAA7-83CE6356B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E3D1F-B083-4D6C-84DA-E4AB1208D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2CA80-6FA2-481F-A465-5917EDD0F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6BE39-FC56-42C2-9E48-655EF0FDD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6F277-C0B6-4F4E-A05F-C0F5F3B2F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B2776-4ADD-4B7A-9405-5EE9537FD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4042-DAAF-42D1-A5F0-41C8858D0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5A7B-E395-4FD5-BFF7-E5BD60A3B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3B22-3A91-43F9-9175-375E54929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1477-B4C0-4337-94D0-86A93F980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2039-5AA7-45DB-87F3-78AD502EC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DA4E-205F-44EC-8283-ABE2AE0BE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A2B5-E5BF-4C36-8ADC-B15479AAB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B6B60-77B2-4C28-B494-29FF2F46343C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1A977-EEFA-4970-993B-34D6C8922FB3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audio" Target="../media/setup0.wav"/><Relationship Id="rId5" Type="http://schemas.openxmlformats.org/officeDocument/2006/relationships/audio" Target="../media/Robotz.%20Error.wav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Robotz.%20Error.wav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564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d20000"/>
                </a:solidFill>
                <a:latin typeface="Comic Sans MS"/>
              </a:rPr>
              <a:t>METODOLOGIA DE LA INVESTIGACION: MATRIZ MAPIC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44280" y="5334120"/>
            <a:ext cx="9144000" cy="1523880"/>
            <a:chOff x="44280" y="5334120"/>
            <a:chExt cx="9144000" cy="152388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7735680" y="5334120"/>
              <a:ext cx="145260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44280" y="5334120"/>
              <a:ext cx="1676520" cy="15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"/>
          <p:cNvSpPr/>
          <p:nvPr/>
        </p:nvSpPr>
        <p:spPr>
          <a:xfrm>
            <a:off x="1474920" y="3932280"/>
            <a:ext cx="619272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55000"/>
          </a:bodyPr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Expositor: Ms. Sc. Luis Villarroel P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Cochabamba, mayo 200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8920" y="333360"/>
            <a:ext cx="81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Proyecto Centro de Estadística Aplicada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CES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7150-EFB2-47BD-9A10-4C7ECA898C98}" type="slidenum">
              <a:t>1</a:t>
            </a:fld>
          </a:p>
        </p:txBody>
      </p:sp>
    </p:spTree>
  </p:cSld>
  <p:transition spd="slow">
    <p:strips dir="lu"/>
    <p:sndAc>
      <p:stSnd>
        <p:snd r:embed="rId3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etup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500"/>
                            </p:stCondLst>
                            <p:childTnLst>
                              <p:par>
                                <p:cTn id="2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22520" y="1854360"/>
            <a:ext cx="753696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¿Que es una variable?</a:t>
            </a:r>
            <a:r>
              <a:rPr b="0" i="1" lang="es-ES_tradnl" sz="2400" spc="-1" strike="noStrike">
                <a:solidFill>
                  <a:srgbClr val="006699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Características o atributos de los “individuos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estudiar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76480" y="636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49520" y="3432240"/>
            <a:ext cx="568764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Existen dos problemas a resolv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Número de variab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Naturaleza del da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1BAC-FE6F-40F7-BF26-6D384BB5C46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62120" y="12193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Variables categóricas y variables rea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9960" y="1908000"/>
            <a:ext cx="8016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ffff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categóricas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o cualitativas</a:t>
            </a: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son aquellas que toman un número limitado de modalidade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l sexo, estado civil, 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cada modalidad corresponde una categoría de individuos; estas categorías forman una partición de la població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4506840"/>
            <a:ext cx="80773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90000"/>
              </a:lnSpc>
              <a:spcBef>
                <a:spcPts val="1500"/>
              </a:spcBef>
              <a:buClr>
                <a:srgbClr val="ffffcc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reales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o cuantitativas son las que toman valores reales para los cuales podemos calcular resúmenes numéricos ( media, varianza,... 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dad, ingreso,rendimiento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62388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 DEFINICION DE LAS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EFEB-D642-4AF3-A395-27CA52A6C1E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856440" y="1295280"/>
            <a:ext cx="24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Tipos de datos: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1989000"/>
            <a:ext cx="75438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medición – continu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conteo - discre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93880" y="690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3645000"/>
            <a:ext cx="754380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binari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ord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nom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C0C0-9F22-4A05-8EB1-90DEF3B59B1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533520" y="3952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3. DEFINICIÓN 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219320" y="2286000"/>
            <a:ext cx="6628680" cy="3580920"/>
            <a:chOff x="1219320" y="2286000"/>
            <a:chExt cx="6628680" cy="3580920"/>
          </a:xfrm>
        </p:grpSpPr>
        <p:grpSp>
          <p:nvGrpSpPr>
            <p:cNvPr id="125" name=""/>
            <p:cNvGrpSpPr/>
            <p:nvPr/>
          </p:nvGrpSpPr>
          <p:grpSpPr>
            <a:xfrm>
              <a:off x="1229040" y="2290680"/>
              <a:ext cx="6607440" cy="3570840"/>
              <a:chOff x="1229040" y="2290680"/>
              <a:chExt cx="6607440" cy="3570840"/>
            </a:xfrm>
          </p:grpSpPr>
          <p:grpSp>
            <p:nvGrpSpPr>
              <p:cNvPr id="126" name=""/>
              <p:cNvGrpSpPr/>
              <p:nvPr/>
            </p:nvGrpSpPr>
            <p:grpSpPr>
              <a:xfrm>
                <a:off x="1229040" y="2290680"/>
                <a:ext cx="3228120" cy="1033200"/>
                <a:chOff x="1229040" y="2290680"/>
                <a:chExt cx="3228120" cy="10332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1323720" y="2290680"/>
                  <a:ext cx="303840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RESULTADOS 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ESPERADOS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1229040" y="2290680"/>
                  <a:ext cx="322812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4457880" y="2290680"/>
                <a:ext cx="3378600" cy="1033200"/>
                <a:chOff x="4457880" y="2290680"/>
                <a:chExt cx="3378600" cy="103320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4553640" y="2290680"/>
                  <a:ext cx="318708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VARIABLES – TIPO DE VARIABLE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4457880" y="2290680"/>
                  <a:ext cx="337860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1229040" y="3324240"/>
                <a:ext cx="3228120" cy="845280"/>
                <a:chOff x="1229040" y="3324240"/>
                <a:chExt cx="3228120" cy="84528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1323720" y="3324240"/>
                  <a:ext cx="303840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229040" y="3324240"/>
                  <a:ext cx="322812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4457880" y="3324240"/>
                <a:ext cx="3378600" cy="845280"/>
                <a:chOff x="4457880" y="3324240"/>
                <a:chExt cx="3378600" cy="845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553640" y="3324240"/>
                  <a:ext cx="318708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 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 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litativa, Binari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457880" y="3324240"/>
                  <a:ext cx="337860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1229040" y="4170240"/>
                <a:ext cx="3228120" cy="1032840"/>
                <a:chOff x="1229040" y="4170240"/>
                <a:chExt cx="3228120" cy="103284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1323720" y="4170240"/>
                  <a:ext cx="303840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229040" y="4170240"/>
                  <a:ext cx="322812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4457880" y="4170240"/>
                <a:ext cx="3378600" cy="1032840"/>
                <a:chOff x="4457880" y="4170240"/>
                <a:chExt cx="3378600" cy="103284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4553640" y="4170240"/>
                  <a:ext cx="318708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3 (Cualitativa, Ord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1 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4 (Cualitativa, Nom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457880" y="4170240"/>
                  <a:ext cx="337860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1229040" y="5203800"/>
                <a:ext cx="3228120" cy="657720"/>
                <a:chOff x="1229040" y="5203800"/>
                <a:chExt cx="3228120" cy="65772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1323720" y="5203800"/>
                  <a:ext cx="303840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3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1229040" y="5203800"/>
                  <a:ext cx="322812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4457880" y="5203800"/>
                <a:ext cx="3378600" cy="657720"/>
                <a:chOff x="4457880" y="5203800"/>
                <a:chExt cx="3378600" cy="65772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4553640" y="5203800"/>
                  <a:ext cx="318708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s-ES_tradnl" sz="1800" spc="-1" strike="noStrike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4457880" y="5203800"/>
                  <a:ext cx="337860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0" name=""/>
            <p:cNvSpPr/>
            <p:nvPr/>
          </p:nvSpPr>
          <p:spPr>
            <a:xfrm>
              <a:off x="1219320" y="2286000"/>
              <a:ext cx="6628680" cy="35809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723600" y="1219320"/>
            <a:ext cx="366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Número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536A-FD16-4764-A438-92BE1D00631C}" type="slidenum">
              <a:t>13</a:t>
            </a:fld>
          </a:p>
        </p:txBody>
      </p:sp>
    </p:spTree>
  </p:cSld>
  <p:transition>
    <p:random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19890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Prim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l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nt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cuesta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xperiment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70800" y="1197000"/>
            <a:ext cx="412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Fuentes de inform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57080" y="438624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Secund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Intern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gistr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In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Externas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Publicacion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stadísticas sectorial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Ex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7445-F515-413D-885F-0E996365DC5B}" type="slidenum">
              <a:t>14</a:t>
            </a:fld>
          </a:p>
        </p:txBody>
      </p:sp>
    </p:spTree>
  </p:cSld>
  <p:transition>
    <p:random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85200" y="1197000"/>
            <a:ext cx="513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Métodos de colecta primari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95280" y="2133720"/>
          <a:ext cx="8280360" cy="4365360"/>
        </p:xfrm>
        <a:graphic>
          <a:graphicData uri="http://schemas.openxmlformats.org/drawingml/2006/table">
            <a:tbl>
              <a:tblPr/>
              <a:tblGrid>
                <a:gridCol w="4140360"/>
                <a:gridCol w="4140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ÓN CUANT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ON CUAL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usca las causas sin recurrir a la interpretación subje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nterés por comprender el comportamiento human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lógico-positivist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fenomenológic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controlad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observacional natural, sin contro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bjetivismo, perspectiva ex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Subjetivismo, perspectiva i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verificacionista, confirmatoria, reduccionista, inferencia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descubrimiento, exploratoria, descriptiva, induc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resultad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proces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 la formalidad, datos exactos y riguroso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l contenido, datos reale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articular – Intenta anal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General – Intenta sintet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DAA7-1A44-4396-90A1-F5AC5C9155DA}" type="slidenum">
              <a:t>15</a:t>
            </a:fld>
          </a:p>
        </p:txBody>
      </p:sp>
    </p:spTree>
  </p:cSld>
  <p:transition>
    <p:random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87000" y="1197000"/>
            <a:ext cx="66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l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12720" y="213372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Semi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hillips 6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Delph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In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proyectiv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de creativ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Observación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de Conteni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uditor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C702-6527-4F5A-9F5B-523932FB3148}" type="slidenum">
              <a:t>16</a:t>
            </a:fld>
          </a:p>
        </p:txBody>
      </p:sp>
    </p:spTree>
  </p:cSld>
  <p:transition>
    <p:random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87360" y="1197000"/>
            <a:ext cx="695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nt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12720" y="21337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ost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elefón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 periódica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46FB-29FF-4F88-BA3C-D423AC71A10F}" type="slidenum">
              <a:t>17</a:t>
            </a:fld>
          </a:p>
        </p:txBody>
      </p:sp>
    </p:spTree>
  </p:cSld>
  <p:transition>
    <p:random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24000" y="9079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Procedimientos de selección de “individuos” de la población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42280" y="228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685800" y="2122560"/>
            <a:ext cx="3504600" cy="1841760"/>
            <a:chOff x="685800" y="2122560"/>
            <a:chExt cx="3504600" cy="1841760"/>
          </a:xfrm>
        </p:grpSpPr>
        <p:sp>
          <p:nvSpPr>
            <p:cNvPr id="168" name=""/>
            <p:cNvSpPr/>
            <p:nvPr/>
          </p:nvSpPr>
          <p:spPr>
            <a:xfrm>
              <a:off x="685800" y="2357280"/>
              <a:ext cx="3352680" cy="110628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37880" y="212256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117440" y="3565440"/>
              <a:ext cx="91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Cens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4648320" y="2262240"/>
            <a:ext cx="3632760" cy="1701360"/>
            <a:chOff x="4648320" y="2262240"/>
            <a:chExt cx="3632760" cy="1701360"/>
          </a:xfrm>
        </p:grpSpPr>
        <p:sp>
          <p:nvSpPr>
            <p:cNvPr id="172" name=""/>
            <p:cNvSpPr/>
            <p:nvPr/>
          </p:nvSpPr>
          <p:spPr>
            <a:xfrm>
              <a:off x="4648320" y="2459520"/>
              <a:ext cx="3352680" cy="1034280"/>
            </a:xfrm>
            <a:prstGeom prst="ellipse">
              <a:avLst/>
            </a:prstGeom>
            <a:gradFill rotWithShape="0">
              <a:gsLst>
                <a:gs pos="0">
                  <a:srgbClr val="754617"/>
                </a:gs>
                <a:gs pos="50000">
                  <a:srgbClr val="ff9933"/>
                </a:gs>
                <a:gs pos="100000">
                  <a:srgbClr val="754617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928560" y="226224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334120" y="2854080"/>
              <a:ext cx="1523880" cy="4420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Muestra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6040" y="3564720"/>
              <a:ext cx="1326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Muestre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250920" y="4338720"/>
            <a:ext cx="88930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n el caso de un plan de muestreo se plantean dos pregunta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90720" y="55022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xtrapolar a la población entera los resultados que se observaron sobre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63720" y="4956120"/>
            <a:ext cx="40356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legir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11840" y="762120"/>
            <a:ext cx="45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¿Qué es un plan de muestreo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2AE0-39D4-4442-BDF0-10310C302194}" type="slidenum">
              <a:t>18</a:t>
            </a:fld>
          </a:p>
        </p:txBody>
      </p:sp>
    </p:spTree>
  </p:cSld>
  <p:transition>
    <p:random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09480" y="3200400"/>
            <a:ext cx="403884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1337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8080" y="1447920"/>
            <a:ext cx="822960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lemento clave: representatividad de la muestra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42280" y="417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38080" y="36576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8000" indent="-378000">
              <a:lnSpc>
                <a:spcPct val="100000"/>
              </a:lnSpc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probabilistic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562720" y="2666880"/>
            <a:ext cx="3581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638680" y="3505320"/>
            <a:ext cx="403884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638680" y="4572000"/>
            <a:ext cx="28958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aza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2120" y="2057400"/>
            <a:ext cx="335268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Comic Sans MS"/>
              </a:rPr>
              <a:t>Tipos de muestreo</a:t>
            </a: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2A09-ED3F-44B6-AA32-6EC80F520DFD}" type="slidenum">
              <a:t>19</a:t>
            </a:fld>
          </a:p>
        </p:txBody>
      </p:sp>
    </p:spTree>
  </p:cSld>
  <p:transition>
    <p:random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50560" y="2123640"/>
            <a:ext cx="8692920" cy="396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CONTENID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.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Introducción – Objetivos – problemas en investig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.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Bases metodológicas para el diseño de la investigación – Matriz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MAPIC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I. Herramientas para el análisis e interpretación de dato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V.   Conclusion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0011-3D5E-44DA-AFE8-30B2474F7834}" type="slidenum">
              <a:t>2</a:t>
            </a:fld>
          </a:p>
        </p:txBody>
      </p:sp>
    </p:spTree>
  </p:cSld>
  <p:transition spd="slow">
    <p:strips dir="lu"/>
    <p:sndAc>
      <p:stSnd>
        <p:snd r:embed="rId1" name="chimes.wav"/>
      </p:stSnd>
    </p:sndAc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28600" y="2819520"/>
            <a:ext cx="403848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00600" y="19051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880" y="32767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no probabilístic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o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142280" y="61596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257800" y="3048120"/>
            <a:ext cx="403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investigador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257800" y="46036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257800" y="22255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954B-6208-4CBB-9109-6C8E09B1F51E}" type="slidenum">
              <a:t>20</a:t>
            </a:fld>
          </a:p>
        </p:txBody>
      </p:sp>
    </p:spTree>
  </p:cSld>
  <p:transition>
    <p:random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837360" y="55404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371600" y="475308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onveni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uo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“bola de nieve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90720" y="3706920"/>
            <a:ext cx="64767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de muestreo no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98560" y="1819440"/>
            <a:ext cx="512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87600" y="263700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aleatorio y simp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estratifica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conglom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4DC3-3A11-4B99-BF3B-22DF573F9F21}" type="slidenum">
              <a:t>21</a:t>
            </a:fld>
          </a:p>
        </p:txBody>
      </p:sp>
    </p:spTree>
  </p:cSld>
  <p:transition>
    <p:random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762120" y="1905120"/>
            <a:ext cx="7619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roblema “complejo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ivel descriptivo – nivel infer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Criterios: Resultados esperados, variables que participan en el resultado, tipo de dato, método estadístico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304920"/>
            <a:ext cx="786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6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TERMINACIÓN DEL TAMAÑO DE LA MUESTR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7462-E8A3-41E7-835B-0A5D174CBE22}" type="slidenum">
              <a:t>22</a:t>
            </a:fld>
          </a:p>
        </p:txBody>
      </p:sp>
    </p:spTree>
  </p:cSld>
  <p:transition>
    <p:random/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770400" y="70632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1560" y="1143000"/>
            <a:ext cx="6218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provechamiento de los datos colect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5029200" y="1981080"/>
            <a:ext cx="3926160" cy="2184480"/>
            <a:chOff x="5029200" y="1981080"/>
            <a:chExt cx="3926160" cy="2184480"/>
          </a:xfrm>
        </p:grpSpPr>
        <p:sp>
          <p:nvSpPr>
            <p:cNvPr id="206" name=""/>
            <p:cNvSpPr/>
            <p:nvPr/>
          </p:nvSpPr>
          <p:spPr>
            <a:xfrm>
              <a:off x="5029200" y="1981080"/>
              <a:ext cx="3886200" cy="218448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182920" y="2552760"/>
              <a:ext cx="3772440" cy="86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 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descriptivo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RESUMEN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2819520" y="4419720"/>
            <a:ext cx="3763080" cy="2057400"/>
            <a:chOff x="2819520" y="4419720"/>
            <a:chExt cx="3763080" cy="2057400"/>
          </a:xfrm>
        </p:grpSpPr>
        <p:sp>
          <p:nvSpPr>
            <p:cNvPr id="209" name=""/>
            <p:cNvSpPr/>
            <p:nvPr/>
          </p:nvSpPr>
          <p:spPr>
            <a:xfrm>
              <a:off x="2819520" y="4419720"/>
              <a:ext cx="3708360" cy="205740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916720" y="4848120"/>
              <a:ext cx="366588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inferencial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GENERALIZACIÓN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185760" y="2057400"/>
            <a:ext cx="3967200" cy="2133720"/>
            <a:chOff x="185760" y="2057400"/>
            <a:chExt cx="3967200" cy="2133720"/>
          </a:xfrm>
        </p:grpSpPr>
        <p:sp>
          <p:nvSpPr>
            <p:cNvPr id="212" name=""/>
            <p:cNvSpPr/>
            <p:nvPr/>
          </p:nvSpPr>
          <p:spPr>
            <a:xfrm>
              <a:off x="185760" y="2057400"/>
              <a:ext cx="3967200" cy="213372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91240" y="2347920"/>
              <a:ext cx="373752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exploratorio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EDA (</a:t>
              </a:r>
              <a:r>
                <a:rPr b="0" i="1" lang="es-ES" sz="1800" spc="-1" strike="noStrike">
                  <a:solidFill>
                    <a:srgbClr val="006699"/>
                  </a:solidFill>
                  <a:latin typeface="Comic Sans MS"/>
                </a:rPr>
                <a:t>Exploring Data Analysis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) :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 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CONTROL DE CALIDAD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4199040" y="2743200"/>
            <a:ext cx="830160" cy="609480"/>
          </a:xfrm>
          <a:prstGeom prst="rightArrow">
            <a:avLst>
              <a:gd name="adj1" fmla="val 43231"/>
              <a:gd name="adj2" fmla="val 56772"/>
            </a:avLst>
          </a:prstGeom>
          <a:gradFill rotWithShape="0">
            <a:gsLst>
              <a:gs pos="0">
                <a:srgbClr val="f4f8fa"/>
              </a:gs>
              <a:gs pos="50000">
                <a:srgbClr val="006699"/>
              </a:gs>
              <a:gs pos="100000">
                <a:srgbClr val="f4f8fa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10800000">
            <a:off x="6594480" y="4176360"/>
            <a:ext cx="1371600" cy="16765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192" stAng="10800000" swAng="5400000"/>
                <a:lnTo>
                  <a:pt x="12825" y="3968"/>
                </a:lnTo>
                <a:lnTo>
                  <a:pt x="12825" y="0"/>
                </a:lnTo>
                <a:lnTo>
                  <a:pt x="21600" y="6079"/>
                </a:lnTo>
                <a:lnTo>
                  <a:pt x="12825" y="12158"/>
                </a:lnTo>
                <a:lnTo>
                  <a:pt x="12825" y="8190"/>
                </a:lnTo>
                <a:lnTo>
                  <a:pt x="12427" y="8190"/>
                </a:lnTo>
                <a:arcTo wR="8205" hR="3970" stAng="16200000" swAng="-5400000"/>
                <a:lnTo>
                  <a:pt x="4222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50000">
                <a:srgbClr val="006699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81E9-AABD-4792-81EE-E383AC06982F}" type="slidenum">
              <a:t>23</a:t>
            </a:fld>
          </a:p>
        </p:txBody>
      </p:sp>
    </p:spTree>
  </p:cSld>
  <p:transition>
    <p:random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500"/>
                            </p:stCondLst>
                            <p:childTnLst>
                              <p:par>
                                <p:cTn id="53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80880" y="334800"/>
            <a:ext cx="876312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 startAt="3"/>
              <a:tabLst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HERRAMIENTAS PARA EL ANALIS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3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3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“caja de herramientas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•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El problema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selección de un método estadístico y el tamaño de muestra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 Problema “complicado”, tema poco desarrollado en la literatu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Factores de selec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Número de 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Tipo de los dat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AD8A-AB08-4178-8B91-906F6B1F11BE}" type="slidenum">
              <a:t>24</a:t>
            </a:fld>
          </a:p>
        </p:txBody>
      </p:sp>
    </p:spTree>
  </p:cSld>
  <p:transition spd="slow">
    <p:pull dir="d"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24000" y="812880"/>
            <a:ext cx="792468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I.  HERRAMIENTAS PARA EL ANALISIS 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Definición de la Estadíst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njunto de métodos que tienen como objetivo, “juntar” y analizar los datos numéricos. DAGNEILLE [1998]. Tiene un rol esencial en las diferentes disciplinas científica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La Estadística Aplicad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levar la estadística “a la puerta de las personas que están en la obligación de utilizar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C6AC-EDF9-4394-9DBE-F85B223EC316}" type="slidenum">
              <a:t>25</a:t>
            </a:fld>
          </a:p>
        </p:txBody>
      </p:sp>
    </p:spTree>
  </p:cSld>
  <p:transition spd="med">
    <p:zoom dir="in"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057400" y="3568680"/>
            <a:ext cx="380880" cy="685800"/>
          </a:xfrm>
          <a:prstGeom prst="downArrow">
            <a:avLst>
              <a:gd name="adj1" fmla="val 50000"/>
              <a:gd name="adj2" fmla="val 45014"/>
            </a:avLst>
          </a:prstGeom>
          <a:solidFill>
            <a:srgbClr val="ff99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14400" y="4330800"/>
            <a:ext cx="25146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ANALISIS ESTADISTIC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0" y="4297320"/>
            <a:ext cx="46483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nferencial (Métodos estadísticos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505320" y="44067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505320" y="48639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El Estudio Estadístico: Se descomponen en 2 f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1E60-CFD3-4E8A-802D-E9C05821108E}" type="slidenum">
              <a:t>26</a:t>
            </a:fld>
          </a:p>
        </p:txBody>
      </p:sp>
    </p:spTree>
  </p:cSld>
  <p:transition spd="med">
    <p:split dir="in" orient="vert"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0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500"/>
                            </p:stCondLst>
                            <p:childTnLst>
                              <p:par>
                                <p:cTn id="5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500"/>
                            </p:stCondLst>
                            <p:childTnLst>
                              <p:par>
                                <p:cTn id="6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0" dur="3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500"/>
                            </p:stCondLst>
                            <p:childTnLst>
                              <p:par>
                                <p:cTn id="6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500"/>
                            </p:stCondLst>
                            <p:childTnLst>
                              <p:par>
                                <p:cTn id="6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2000"/>
                            </p:stCondLst>
                            <p:childTnLst>
                              <p:par>
                                <p:cTn id="6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523880" y="15228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TRATAMIENTO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380880" y="1143000"/>
            <a:ext cx="8610840" cy="5562720"/>
            <a:chOff x="380880" y="1143000"/>
            <a:chExt cx="8610840" cy="5562720"/>
          </a:xfrm>
        </p:grpSpPr>
        <p:sp>
          <p:nvSpPr>
            <p:cNvPr id="230" name=""/>
            <p:cNvSpPr/>
            <p:nvPr/>
          </p:nvSpPr>
          <p:spPr>
            <a:xfrm>
              <a:off x="380880" y="1143000"/>
              <a:ext cx="8610840" cy="5562720"/>
            </a:xfrm>
            <a:prstGeom prst="cube">
              <a:avLst>
                <a:gd name="adj" fmla="val 8925"/>
              </a:avLst>
            </a:prstGeom>
            <a:solidFill>
              <a:srgbClr val="ffcc66"/>
            </a:solidFill>
            <a:ln w="93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80880" y="1143000"/>
              <a:ext cx="8610840" cy="492120"/>
            </a:xfrm>
            <a:prstGeom prst="parallelogram">
              <a:avLst>
                <a:gd name="adj" fmla="val -84044"/>
              </a:avLst>
            </a:prstGeom>
            <a:gradFill rotWithShape="0">
              <a:gsLst>
                <a:gs pos="0">
                  <a:srgbClr val="5f5f5f"/>
                </a:gs>
                <a:gs pos="100000">
                  <a:srgbClr val="bebebe"/>
                </a:gs>
              </a:gsLst>
              <a:lin ang="8100000"/>
            </a:gra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2590920" y="5335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stadística - Herramien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495680" y="1600200"/>
            <a:ext cx="0" cy="5105520"/>
          </a:xfrm>
          <a:prstGeom prst="line">
            <a:avLst/>
          </a:prstGeom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66680" y="2362320"/>
            <a:ext cx="266724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Descriptiv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029200" y="2293920"/>
            <a:ext cx="266688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Inferencial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38080" y="419112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RESUMI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0" y="419112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GENERALIZA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495680" y="59436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105520" y="2743200"/>
            <a:ext cx="2666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Estimació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105520" y="4952880"/>
            <a:ext cx="26668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Test de Hipótesi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0880" y="327672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0880" y="502920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438280" y="1600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0020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90720" y="1981080"/>
            <a:ext cx="304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38080" y="556272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2408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495680" y="243828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495680" y="327672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876920" y="18892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724280" y="24382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876920" y="43876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800600" y="524196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800600" y="60040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1980720" y="3581280"/>
            <a:ext cx="838080" cy="53316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495680" y="50292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743200" y="34290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-152280" y="350532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146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295280" y="35053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2408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743200" y="51055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-152280" y="518148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295280" y="518148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rot="5400000">
            <a:off x="5943600" y="358128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38080" y="365760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724280" y="35053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495680" y="4114800"/>
            <a:ext cx="403884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F201-D6FC-4168-A569-7A283E4D9AF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500"/>
                            </p:stCondLst>
                            <p:childTnLst>
                              <p:par>
                                <p:cTn id="6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500"/>
                            </p:stCondLst>
                            <p:childTnLst>
                              <p:par>
                                <p:cTn id="6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500"/>
                            </p:stCondLst>
                            <p:childTnLst>
                              <p:par>
                                <p:cTn id="6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500"/>
                            </p:stCondLst>
                            <p:childTnLst>
                              <p:par>
                                <p:cTn id="7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1000"/>
                            </p:stCondLst>
                            <p:childTnLst>
                              <p:par>
                                <p:cTn id="7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500"/>
                            </p:stCondLst>
                            <p:childTnLst>
                              <p:par>
                                <p:cTn id="7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1000"/>
                            </p:stCondLst>
                            <p:childTnLst>
                              <p:par>
                                <p:cTn id="7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1500"/>
                            </p:stCondLst>
                            <p:childTnLst>
                              <p:par>
                                <p:cTn id="7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500"/>
                            </p:stCondLst>
                            <p:childTnLst>
                              <p:par>
                                <p:cTn id="7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1000"/>
                            </p:stCondLst>
                            <p:childTnLst>
                              <p:par>
                                <p:cTn id="7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500"/>
                            </p:stCondLst>
                            <p:childTnLst>
                              <p:par>
                                <p:cTn id="7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1000"/>
                            </p:stCondLst>
                            <p:childTnLst>
                              <p:par>
                                <p:cTn id="7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500"/>
                            </p:stCondLst>
                            <p:childTnLst>
                              <p:par>
                                <p:cTn id="8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1000"/>
                            </p:stCondLst>
                            <p:childTnLst>
                              <p:par>
                                <p:cTn id="8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500"/>
                            </p:stCondLst>
                            <p:childTnLst>
                              <p:par>
                                <p:cTn id="8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1000"/>
                            </p:stCondLst>
                            <p:childTnLst>
                              <p:par>
                                <p:cTn id="8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1500"/>
                            </p:stCondLst>
                            <p:childTnLst>
                              <p:par>
                                <p:cTn id="8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500"/>
                            </p:stCondLst>
                            <p:childTnLst>
                              <p:par>
                                <p:cTn id="8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1000"/>
                            </p:stCondLst>
                            <p:childTnLst>
                              <p:par>
                                <p:cTn id="8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1500"/>
                            </p:stCondLst>
                            <p:childTnLst>
                              <p:par>
                                <p:cTn id="8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2000"/>
                            </p:stCondLst>
                            <p:childTnLst>
                              <p:par>
                                <p:cTn id="8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272" name=""/>
            <p:cNvGrpSpPr/>
            <p:nvPr/>
          </p:nvGrpSpPr>
          <p:grpSpPr>
            <a:xfrm>
              <a:off x="843840" y="1819080"/>
              <a:ext cx="7835400" cy="4651920"/>
              <a:chOff x="843840" y="1819080"/>
              <a:chExt cx="7835400" cy="4651920"/>
            </a:xfrm>
          </p:grpSpPr>
          <p:grpSp>
            <p:nvGrpSpPr>
              <p:cNvPr id="273" name=""/>
              <p:cNvGrpSpPr/>
              <p:nvPr/>
            </p:nvGrpSpPr>
            <p:grpSpPr>
              <a:xfrm>
                <a:off x="843840" y="1819080"/>
                <a:ext cx="1958400" cy="676080"/>
                <a:chOff x="843840" y="1819080"/>
                <a:chExt cx="1958400" cy="67608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901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 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843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2802600" y="1819080"/>
                <a:ext cx="1958400" cy="676080"/>
                <a:chOff x="2802600" y="1819080"/>
                <a:chExt cx="1958400" cy="67608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285984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280260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4761720" y="1819080"/>
                <a:ext cx="1958400" cy="676080"/>
                <a:chOff x="4761720" y="1819080"/>
                <a:chExt cx="1958400" cy="67608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481896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476172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6720840" y="1819080"/>
                <a:ext cx="1958400" cy="676080"/>
                <a:chOff x="6720840" y="1819080"/>
                <a:chExt cx="1958400" cy="67608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6778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Mult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720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843840" y="2495520"/>
                <a:ext cx="1958400" cy="1272960"/>
                <a:chOff x="843840" y="2495520"/>
                <a:chExt cx="1958400" cy="127296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901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nt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843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2802600" y="2495520"/>
                <a:ext cx="1958400" cy="1272960"/>
                <a:chOff x="2802600" y="2495520"/>
                <a:chExt cx="1958400" cy="127296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285984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280260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4761720" y="2495520"/>
                <a:ext cx="1958400" cy="1272960"/>
                <a:chOff x="4761720" y="2495520"/>
                <a:chExt cx="1958400" cy="127296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481896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476172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6720840" y="2495520"/>
                <a:ext cx="1958400" cy="1272960"/>
                <a:chOff x="6720840" y="2495520"/>
                <a:chExt cx="1958400" cy="127296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6778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iagrama de individuos 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6720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843840" y="3768840"/>
                <a:ext cx="1958400" cy="1061280"/>
                <a:chOff x="843840" y="3768840"/>
                <a:chExt cx="1958400" cy="106128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901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l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843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2802600" y="3768840"/>
                <a:ext cx="1958400" cy="1061280"/>
                <a:chOff x="2802600" y="3768840"/>
                <a:chExt cx="1958400" cy="106128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285984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280260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4761720" y="3768840"/>
                <a:ext cx="1958400" cy="1061280"/>
                <a:chOff x="4761720" y="3768840"/>
                <a:chExt cx="1958400" cy="106128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481896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476172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6720840" y="3768840"/>
                <a:ext cx="1958400" cy="1061280"/>
                <a:chOff x="6720840" y="3768840"/>
                <a:chExt cx="1958400" cy="106128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6778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6720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843840" y="4830480"/>
                <a:ext cx="1958400" cy="1640520"/>
                <a:chOff x="843840" y="4830480"/>
                <a:chExt cx="1958400" cy="164052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901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mixt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843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2802600" y="4830480"/>
                <a:ext cx="1958400" cy="1640520"/>
                <a:chOff x="2802600" y="4830480"/>
                <a:chExt cx="1958400" cy="164052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285984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-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280260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4761720" y="4830480"/>
                <a:ext cx="1958400" cy="1640520"/>
                <a:chOff x="4761720" y="4830480"/>
                <a:chExt cx="1958400" cy="164052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481896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 : Cuantitativa-nom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: Cuantitativa - Ord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476172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6720840" y="4830480"/>
                <a:ext cx="1958400" cy="1640520"/>
                <a:chOff x="6720840" y="4830480"/>
                <a:chExt cx="1958400" cy="164052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6778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FC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6720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1" name=""/>
            <p:cNvSpPr/>
            <p:nvPr/>
          </p:nvSpPr>
          <p:spPr>
            <a:xfrm>
              <a:off x="838080" y="1814400"/>
              <a:ext cx="7848360" cy="4662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682200" y="1152360"/>
            <a:ext cx="491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exploratorio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D8E9-E865-4954-9A8F-0BBD26165A56}" type="slidenum">
              <a:t>28</a:t>
            </a:fld>
          </a:p>
        </p:txBody>
      </p:sp>
    </p:spTree>
  </p:cSld>
  <p:transition>
    <p:random/>
  </p:transition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694080" y="1152360"/>
            <a:ext cx="47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327" name=""/>
            <p:cNvGrpSpPr/>
            <p:nvPr/>
          </p:nvGrpSpPr>
          <p:grpSpPr>
            <a:xfrm>
              <a:off x="838080" y="1814400"/>
              <a:ext cx="7848360" cy="4662360"/>
              <a:chOff x="838080" y="1814400"/>
              <a:chExt cx="7848360" cy="4662360"/>
            </a:xfrm>
          </p:grpSpPr>
          <p:grpSp>
            <p:nvGrpSpPr>
              <p:cNvPr id="328" name=""/>
              <p:cNvGrpSpPr/>
              <p:nvPr/>
            </p:nvGrpSpPr>
            <p:grpSpPr>
              <a:xfrm>
                <a:off x="843840" y="1819080"/>
                <a:ext cx="7835400" cy="4651920"/>
                <a:chOff x="843840" y="1819080"/>
                <a:chExt cx="7835400" cy="4651920"/>
              </a:xfrm>
            </p:grpSpPr>
            <p:grpSp>
              <p:nvGrpSpPr>
                <p:cNvPr id="329" name=""/>
                <p:cNvGrpSpPr/>
                <p:nvPr/>
              </p:nvGrpSpPr>
              <p:grpSpPr>
                <a:xfrm>
                  <a:off x="843840" y="1819080"/>
                  <a:ext cx="1958400" cy="676080"/>
                  <a:chOff x="843840" y="1819080"/>
                  <a:chExt cx="1958400" cy="676080"/>
                </a:xfrm>
              </p:grpSpPr>
              <p:sp>
                <p:nvSpPr>
                  <p:cNvPr id="330" name=""/>
                  <p:cNvSpPr/>
                  <p:nvPr/>
                </p:nvSpPr>
                <p:spPr>
                  <a:xfrm>
                    <a:off x="901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 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843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2" name=""/>
                <p:cNvGrpSpPr/>
                <p:nvPr/>
              </p:nvGrpSpPr>
              <p:grpSpPr>
                <a:xfrm>
                  <a:off x="2802600" y="1819080"/>
                  <a:ext cx="1958400" cy="676080"/>
                  <a:chOff x="2802600" y="1819080"/>
                  <a:chExt cx="1958400" cy="676080"/>
                </a:xfrm>
              </p:grpSpPr>
              <p:sp>
                <p:nvSpPr>
                  <p:cNvPr id="333" name=""/>
                  <p:cNvSpPr/>
                  <p:nvPr/>
                </p:nvSpPr>
                <p:spPr>
                  <a:xfrm>
                    <a:off x="285984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Un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280260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5" name=""/>
                <p:cNvGrpSpPr/>
                <p:nvPr/>
              </p:nvGrpSpPr>
              <p:grpSpPr>
                <a:xfrm>
                  <a:off x="4761720" y="1819080"/>
                  <a:ext cx="1958400" cy="676080"/>
                  <a:chOff x="4761720" y="1819080"/>
                  <a:chExt cx="1958400" cy="676080"/>
                </a:xfrm>
              </p:grpSpPr>
              <p:sp>
                <p:nvSpPr>
                  <p:cNvPr id="336" name=""/>
                  <p:cNvSpPr/>
                  <p:nvPr/>
                </p:nvSpPr>
                <p:spPr>
                  <a:xfrm>
                    <a:off x="481896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B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>
                    <a:off x="476172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8" name=""/>
                <p:cNvGrpSpPr/>
                <p:nvPr/>
              </p:nvGrpSpPr>
              <p:grpSpPr>
                <a:xfrm>
                  <a:off x="6720840" y="1819080"/>
                  <a:ext cx="1958400" cy="676080"/>
                  <a:chOff x="6720840" y="1819080"/>
                  <a:chExt cx="1958400" cy="676080"/>
                </a:xfrm>
              </p:grpSpPr>
              <p:sp>
                <p:nvSpPr>
                  <p:cNvPr id="339" name=""/>
                  <p:cNvSpPr/>
                  <p:nvPr/>
                </p:nvSpPr>
                <p:spPr>
                  <a:xfrm>
                    <a:off x="6778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Mult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6720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1" name=""/>
                <p:cNvGrpSpPr/>
                <p:nvPr/>
              </p:nvGrpSpPr>
              <p:grpSpPr>
                <a:xfrm>
                  <a:off x="843840" y="2495520"/>
                  <a:ext cx="1958400" cy="1272960"/>
                  <a:chOff x="843840" y="2495520"/>
                  <a:chExt cx="1958400" cy="1272960"/>
                </a:xfrm>
              </p:grpSpPr>
              <p:sp>
                <p:nvSpPr>
                  <p:cNvPr id="342" name=""/>
                  <p:cNvSpPr/>
                  <p:nvPr/>
                </p:nvSpPr>
                <p:spPr>
                  <a:xfrm>
                    <a:off x="901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nt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843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4" name=""/>
                <p:cNvGrpSpPr/>
                <p:nvPr/>
              </p:nvGrpSpPr>
              <p:grpSpPr>
                <a:xfrm>
                  <a:off x="2802600" y="2495520"/>
                  <a:ext cx="1958400" cy="1272960"/>
                  <a:chOff x="2802600" y="2495520"/>
                  <a:chExt cx="1958400" cy="1272960"/>
                </a:xfrm>
              </p:grpSpPr>
              <p:sp>
                <p:nvSpPr>
                  <p:cNvPr id="345" name=""/>
                  <p:cNvSpPr/>
                  <p:nvPr/>
                </p:nvSpPr>
                <p:spPr>
                  <a:xfrm>
                    <a:off x="285984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Parametros de posición, dispersión, form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>
                    <a:off x="280260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7" name=""/>
                <p:cNvGrpSpPr/>
                <p:nvPr/>
              </p:nvGrpSpPr>
              <p:grpSpPr>
                <a:xfrm>
                  <a:off x="4761720" y="2495520"/>
                  <a:ext cx="1958400" cy="1272960"/>
                  <a:chOff x="4761720" y="2495520"/>
                  <a:chExt cx="1958400" cy="1272960"/>
                </a:xfrm>
              </p:grpSpPr>
              <p:sp>
                <p:nvSpPr>
                  <p:cNvPr id="348" name=""/>
                  <p:cNvSpPr/>
                  <p:nvPr/>
                </p:nvSpPr>
                <p:spPr>
                  <a:xfrm>
                    <a:off x="481896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, 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varianz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rrelación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Regresión </a:t>
                    </a:r>
                    <a:r>
                      <a:rPr b="0" i="1" lang="en-U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  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476172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0" name=""/>
                <p:cNvGrpSpPr/>
                <p:nvPr/>
              </p:nvGrpSpPr>
              <p:grpSpPr>
                <a:xfrm>
                  <a:off x="6720840" y="2495520"/>
                  <a:ext cx="1958400" cy="1272960"/>
                  <a:chOff x="6720840" y="2495520"/>
                  <a:chExt cx="1958400" cy="1272960"/>
                </a:xfrm>
              </p:grpSpPr>
              <p:sp>
                <p:nvSpPr>
                  <p:cNvPr id="351" name=""/>
                  <p:cNvSpPr/>
                  <p:nvPr/>
                </p:nvSpPr>
                <p:spPr>
                  <a:xfrm>
                    <a:off x="6778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CP</a:t>
                    </a: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, CLUSTER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6720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3" name=""/>
                <p:cNvGrpSpPr/>
                <p:nvPr/>
              </p:nvGrpSpPr>
              <p:grpSpPr>
                <a:xfrm>
                  <a:off x="843840" y="3768840"/>
                  <a:ext cx="1958400" cy="1061280"/>
                  <a:chOff x="843840" y="3768840"/>
                  <a:chExt cx="1958400" cy="1061280"/>
                </a:xfrm>
              </p:grpSpPr>
              <p:sp>
                <p:nvSpPr>
                  <p:cNvPr id="354" name=""/>
                  <p:cNvSpPr/>
                  <p:nvPr/>
                </p:nvSpPr>
                <p:spPr>
                  <a:xfrm>
                    <a:off x="901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l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843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6" name=""/>
                <p:cNvGrpSpPr/>
                <p:nvPr/>
              </p:nvGrpSpPr>
              <p:grpSpPr>
                <a:xfrm>
                  <a:off x="2802600" y="3768840"/>
                  <a:ext cx="1958400" cy="1061280"/>
                  <a:chOff x="2802600" y="3768840"/>
                  <a:chExt cx="1958400" cy="1061280"/>
                </a:xfrm>
              </p:grpSpPr>
              <p:sp>
                <p:nvSpPr>
                  <p:cNvPr id="357" name=""/>
                  <p:cNvSpPr/>
                  <p:nvPr/>
                </p:nvSpPr>
                <p:spPr>
                  <a:xfrm>
                    <a:off x="285984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280260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9" name=""/>
                <p:cNvGrpSpPr/>
                <p:nvPr/>
              </p:nvGrpSpPr>
              <p:grpSpPr>
                <a:xfrm>
                  <a:off x="4761720" y="3768840"/>
                  <a:ext cx="1958400" cy="1061280"/>
                  <a:chOff x="4761720" y="3768840"/>
                  <a:chExt cx="1958400" cy="1061280"/>
                </a:xfrm>
              </p:grpSpPr>
              <p:sp>
                <p:nvSpPr>
                  <p:cNvPr id="360" name=""/>
                  <p:cNvSpPr/>
                  <p:nvPr/>
                </p:nvSpPr>
                <p:spPr>
                  <a:xfrm>
                    <a:off x="481896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Tablas de frecuenci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476172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2" name=""/>
                <p:cNvGrpSpPr/>
                <p:nvPr/>
              </p:nvGrpSpPr>
              <p:grpSpPr>
                <a:xfrm>
                  <a:off x="6720840" y="3768840"/>
                  <a:ext cx="1958400" cy="1061280"/>
                  <a:chOff x="6720840" y="3768840"/>
                  <a:chExt cx="1958400" cy="1061280"/>
                </a:xfrm>
              </p:grpSpPr>
              <p:sp>
                <p:nvSpPr>
                  <p:cNvPr id="363" name=""/>
                  <p:cNvSpPr/>
                  <p:nvPr/>
                </p:nvSpPr>
                <p:spPr>
                  <a:xfrm>
                    <a:off x="6778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FC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6720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5" name=""/>
                <p:cNvGrpSpPr/>
                <p:nvPr/>
              </p:nvGrpSpPr>
              <p:grpSpPr>
                <a:xfrm>
                  <a:off x="843840" y="4830480"/>
                  <a:ext cx="1958400" cy="1640520"/>
                  <a:chOff x="843840" y="4830480"/>
                  <a:chExt cx="1958400" cy="1640520"/>
                </a:xfrm>
              </p:grpSpPr>
              <p:sp>
                <p:nvSpPr>
                  <p:cNvPr id="366" name=""/>
                  <p:cNvSpPr/>
                  <p:nvPr/>
                </p:nvSpPr>
                <p:spPr>
                  <a:xfrm>
                    <a:off x="901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843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8" name=""/>
                <p:cNvGrpSpPr/>
                <p:nvPr/>
              </p:nvGrpSpPr>
              <p:grpSpPr>
                <a:xfrm>
                  <a:off x="2802600" y="4830480"/>
                  <a:ext cx="1958400" cy="1640520"/>
                  <a:chOff x="2802600" y="4830480"/>
                  <a:chExt cx="1958400" cy="1640520"/>
                </a:xfrm>
              </p:grpSpPr>
              <p:sp>
                <p:nvSpPr>
                  <p:cNvPr id="369" name=""/>
                  <p:cNvSpPr/>
                  <p:nvPr/>
                </p:nvSpPr>
                <p:spPr>
                  <a:xfrm>
                    <a:off x="285984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280260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1" name=""/>
                <p:cNvGrpSpPr/>
                <p:nvPr/>
              </p:nvGrpSpPr>
              <p:grpSpPr>
                <a:xfrm>
                  <a:off x="4761720" y="4830480"/>
                  <a:ext cx="1958400" cy="1640520"/>
                  <a:chOff x="4761720" y="4830480"/>
                  <a:chExt cx="1958400" cy="1640520"/>
                </a:xfrm>
              </p:grpSpPr>
              <p:sp>
                <p:nvSpPr>
                  <p:cNvPr id="372" name=""/>
                  <p:cNvSpPr/>
                  <p:nvPr/>
                </p:nvSpPr>
                <p:spPr>
                  <a:xfrm>
                    <a:off x="481896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476172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4" name=""/>
                <p:cNvGrpSpPr/>
                <p:nvPr/>
              </p:nvGrpSpPr>
              <p:grpSpPr>
                <a:xfrm>
                  <a:off x="6720840" y="4830480"/>
                  <a:ext cx="1958400" cy="1640520"/>
                  <a:chOff x="6720840" y="4830480"/>
                  <a:chExt cx="1958400" cy="1640520"/>
                </a:xfrm>
              </p:grpSpPr>
              <p:sp>
                <p:nvSpPr>
                  <p:cNvPr id="375" name=""/>
                  <p:cNvSpPr/>
                  <p:nvPr/>
                </p:nvSpPr>
                <p:spPr>
                  <a:xfrm>
                    <a:off x="6778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6720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77" name=""/>
              <p:cNvSpPr/>
              <p:nvPr/>
            </p:nvSpPr>
            <p:spPr>
              <a:xfrm>
                <a:off x="838080" y="1814400"/>
                <a:ext cx="7848360" cy="4662360"/>
              </a:xfrm>
              <a:prstGeom prst="rect">
                <a:avLst/>
              </a:prstGeom>
              <a:noFill/>
              <a:ln w="111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378" name=""/>
            <p:cNvSpPr/>
            <p:nvPr/>
          </p:nvSpPr>
          <p:spPr>
            <a:xfrm>
              <a:off x="2971800" y="3962520"/>
              <a:ext cx="16002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Gráficas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Tablas de frecuencia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C79E-CFD1-43C0-B01B-01FBF5AEE38B}" type="slidenum">
              <a:t>29</a:t>
            </a:fld>
          </a:p>
        </p:txBody>
      </p:sp>
    </p:spTree>
  </p:cSld>
  <p:transition>
    <p:random/>
  </p:transition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826920" y="1276200"/>
            <a:ext cx="742176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INTRODUCCION - OBJE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Presentar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PROBLEMAS EN INVESTIG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las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BASES METODOLÓGICAS PARA EL DISEÑO DE LA INVESTIGACIÓN – MATRIZ MAPIC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el rol de la 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ESTADISTICA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en la investigación científica (análisis e interpretación de datos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C22B-5610-487F-9451-6184698E73CB}" type="slidenum">
              <a:t>3</a:t>
            </a:fld>
          </a:p>
        </p:txBody>
      </p:sp>
    </p:spTree>
  </p:cSld>
  <p:transition spd="med">
    <p:zoom dir="in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697320" y="1152360"/>
            <a:ext cx="465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inferencial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838080" y="1814400"/>
            <a:ext cx="7848360" cy="5463000"/>
            <a:chOff x="838080" y="1814400"/>
            <a:chExt cx="7848360" cy="5463000"/>
          </a:xfrm>
        </p:grpSpPr>
        <p:sp>
          <p:nvSpPr>
            <p:cNvPr id="382" name=""/>
            <p:cNvSpPr/>
            <p:nvPr/>
          </p:nvSpPr>
          <p:spPr>
            <a:xfrm>
              <a:off x="2971800" y="5087880"/>
              <a:ext cx="1676520" cy="218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Run test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Wilcoxon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Mann-Whitney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Kruskall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383" name=""/>
            <p:cNvGrpSpPr/>
            <p:nvPr/>
          </p:nvGrpSpPr>
          <p:grpSpPr>
            <a:xfrm>
              <a:off x="838080" y="1814400"/>
              <a:ext cx="7848360" cy="4688640"/>
              <a:chOff x="838080" y="1814400"/>
              <a:chExt cx="7848360" cy="4688640"/>
            </a:xfrm>
          </p:grpSpPr>
          <p:grpSp>
            <p:nvGrpSpPr>
              <p:cNvPr id="384" name=""/>
              <p:cNvGrpSpPr/>
              <p:nvPr/>
            </p:nvGrpSpPr>
            <p:grpSpPr>
              <a:xfrm>
                <a:off x="838080" y="1814400"/>
                <a:ext cx="7848360" cy="4662360"/>
                <a:chOff x="838080" y="1814400"/>
                <a:chExt cx="7848360" cy="4662360"/>
              </a:xfrm>
            </p:grpSpPr>
            <p:grpSp>
              <p:nvGrpSpPr>
                <p:cNvPr id="385" name=""/>
                <p:cNvGrpSpPr/>
                <p:nvPr/>
              </p:nvGrpSpPr>
              <p:grpSpPr>
                <a:xfrm>
                  <a:off x="843840" y="1819080"/>
                  <a:ext cx="7835400" cy="4651920"/>
                  <a:chOff x="843840" y="1819080"/>
                  <a:chExt cx="7835400" cy="4651920"/>
                </a:xfrm>
              </p:grpSpPr>
              <p:grpSp>
                <p:nvGrpSpPr>
                  <p:cNvPr id="386" name=""/>
                  <p:cNvGrpSpPr/>
                  <p:nvPr/>
                </p:nvGrpSpPr>
                <p:grpSpPr>
                  <a:xfrm>
                    <a:off x="843840" y="1819080"/>
                    <a:ext cx="1958400" cy="676080"/>
                    <a:chOff x="843840" y="1819080"/>
                    <a:chExt cx="1958400" cy="676080"/>
                  </a:xfrm>
                </p:grpSpPr>
                <p:sp>
                  <p:nvSpPr>
                    <p:cNvPr id="387" name=""/>
                    <p:cNvSpPr/>
                    <p:nvPr/>
                  </p:nvSpPr>
                  <p:spPr>
                    <a:xfrm>
                      <a:off x="901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8" name=""/>
                    <p:cNvSpPr/>
                    <p:nvPr/>
                  </p:nvSpPr>
                  <p:spPr>
                    <a:xfrm>
                      <a:off x="843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9" name=""/>
                  <p:cNvGrpSpPr/>
                  <p:nvPr/>
                </p:nvGrpSpPr>
                <p:grpSpPr>
                  <a:xfrm>
                    <a:off x="2802600" y="1819080"/>
                    <a:ext cx="1958400" cy="676080"/>
                    <a:chOff x="2802600" y="1819080"/>
                    <a:chExt cx="1958400" cy="676080"/>
                  </a:xfrm>
                </p:grpSpPr>
                <p:sp>
                  <p:nvSpPr>
                    <p:cNvPr id="390" name=""/>
                    <p:cNvSpPr/>
                    <p:nvPr/>
                  </p:nvSpPr>
                  <p:spPr>
                    <a:xfrm>
                      <a:off x="285984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Un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1" name=""/>
                    <p:cNvSpPr/>
                    <p:nvPr/>
                  </p:nvSpPr>
                  <p:spPr>
                    <a:xfrm>
                      <a:off x="280260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2" name=""/>
                  <p:cNvGrpSpPr/>
                  <p:nvPr/>
                </p:nvGrpSpPr>
                <p:grpSpPr>
                  <a:xfrm>
                    <a:off x="4761720" y="1819080"/>
                    <a:ext cx="1958400" cy="676080"/>
                    <a:chOff x="4761720" y="1819080"/>
                    <a:chExt cx="1958400" cy="676080"/>
                  </a:xfrm>
                </p:grpSpPr>
                <p:sp>
                  <p:nvSpPr>
                    <p:cNvPr id="393" name=""/>
                    <p:cNvSpPr/>
                    <p:nvPr/>
                  </p:nvSpPr>
                  <p:spPr>
                    <a:xfrm>
                      <a:off x="481896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4" name=""/>
                    <p:cNvSpPr/>
                    <p:nvPr/>
                  </p:nvSpPr>
                  <p:spPr>
                    <a:xfrm>
                      <a:off x="476172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5" name=""/>
                  <p:cNvGrpSpPr/>
                  <p:nvPr/>
                </p:nvGrpSpPr>
                <p:grpSpPr>
                  <a:xfrm>
                    <a:off x="6720840" y="1819080"/>
                    <a:ext cx="1958400" cy="676080"/>
                    <a:chOff x="6720840" y="1819080"/>
                    <a:chExt cx="1958400" cy="676080"/>
                  </a:xfrm>
                </p:grpSpPr>
                <p:sp>
                  <p:nvSpPr>
                    <p:cNvPr id="396" name=""/>
                    <p:cNvSpPr/>
                    <p:nvPr/>
                  </p:nvSpPr>
                  <p:spPr>
                    <a:xfrm>
                      <a:off x="6778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ult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7" name=""/>
                    <p:cNvSpPr/>
                    <p:nvPr/>
                  </p:nvSpPr>
                  <p:spPr>
                    <a:xfrm>
                      <a:off x="6720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8" name=""/>
                  <p:cNvGrpSpPr/>
                  <p:nvPr/>
                </p:nvGrpSpPr>
                <p:grpSpPr>
                  <a:xfrm>
                    <a:off x="843840" y="2495520"/>
                    <a:ext cx="1958400" cy="1272960"/>
                    <a:chOff x="843840" y="2495520"/>
                    <a:chExt cx="1958400" cy="1272960"/>
                  </a:xfrm>
                </p:grpSpPr>
                <p:sp>
                  <p:nvSpPr>
                    <p:cNvPr id="399" name=""/>
                    <p:cNvSpPr/>
                    <p:nvPr/>
                  </p:nvSpPr>
                  <p:spPr>
                    <a:xfrm>
                      <a:off x="901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Estim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0" name=""/>
                    <p:cNvSpPr/>
                    <p:nvPr/>
                  </p:nvSpPr>
                  <p:spPr>
                    <a:xfrm>
                      <a:off x="843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1" name=""/>
                  <p:cNvGrpSpPr/>
                  <p:nvPr/>
                </p:nvGrpSpPr>
                <p:grpSpPr>
                  <a:xfrm>
                    <a:off x="2802600" y="2495520"/>
                    <a:ext cx="1958400" cy="1272960"/>
                    <a:chOff x="2802600" y="2495520"/>
                    <a:chExt cx="1958400" cy="1272960"/>
                  </a:xfrm>
                </p:grpSpPr>
                <p:sp>
                  <p:nvSpPr>
                    <p:cNvPr id="402" name=""/>
                    <p:cNvSpPr/>
                    <p:nvPr/>
                  </p:nvSpPr>
                  <p:spPr>
                    <a:xfrm>
                      <a:off x="285984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medi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Varianza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porcione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>
                      <a:off x="280260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4" name=""/>
                  <p:cNvGrpSpPr/>
                  <p:nvPr/>
                </p:nvGrpSpPr>
                <p:grpSpPr>
                  <a:xfrm>
                    <a:off x="4761720" y="2495520"/>
                    <a:ext cx="1958400" cy="1272960"/>
                    <a:chOff x="4761720" y="2495520"/>
                    <a:chExt cx="1958400" cy="1272960"/>
                  </a:xfrm>
                </p:grpSpPr>
                <p:sp>
                  <p:nvSpPr>
                    <p:cNvPr id="405" name=""/>
                    <p:cNvSpPr/>
                    <p:nvPr/>
                  </p:nvSpPr>
                  <p:spPr>
                    <a:xfrm>
                      <a:off x="481896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6" name=""/>
                    <p:cNvSpPr/>
                    <p:nvPr/>
                  </p:nvSpPr>
                  <p:spPr>
                    <a:xfrm>
                      <a:off x="476172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7" name=""/>
                  <p:cNvGrpSpPr/>
                  <p:nvPr/>
                </p:nvGrpSpPr>
                <p:grpSpPr>
                  <a:xfrm>
                    <a:off x="6720840" y="2495520"/>
                    <a:ext cx="1958400" cy="1272960"/>
                    <a:chOff x="6720840" y="2495520"/>
                    <a:chExt cx="1958400" cy="1272960"/>
                  </a:xfrm>
                </p:grpSpPr>
                <p:sp>
                  <p:nvSpPr>
                    <p:cNvPr id="408" name=""/>
                    <p:cNvSpPr/>
                    <p:nvPr/>
                  </p:nvSpPr>
                  <p:spPr>
                    <a:xfrm>
                      <a:off x="6778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 multiple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 canónoc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9" name=""/>
                    <p:cNvSpPr/>
                    <p:nvPr/>
                  </p:nvSpPr>
                  <p:spPr>
                    <a:xfrm>
                      <a:off x="6720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0" name=""/>
                  <p:cNvGrpSpPr/>
                  <p:nvPr/>
                </p:nvGrpSpPr>
                <p:grpSpPr>
                  <a:xfrm>
                    <a:off x="843840" y="3768840"/>
                    <a:ext cx="1958400" cy="1061280"/>
                    <a:chOff x="843840" y="3768840"/>
                    <a:chExt cx="1958400" cy="1061280"/>
                  </a:xfrm>
                </p:grpSpPr>
                <p:sp>
                  <p:nvSpPr>
                    <p:cNvPr id="411" name=""/>
                    <p:cNvSpPr/>
                    <p:nvPr/>
                  </p:nvSpPr>
                  <p:spPr>
                    <a:xfrm>
                      <a:off x="901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hipotesi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2" name=""/>
                    <p:cNvSpPr/>
                    <p:nvPr/>
                  </p:nvSpPr>
                  <p:spPr>
                    <a:xfrm>
                      <a:off x="843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3" name=""/>
                  <p:cNvGrpSpPr/>
                  <p:nvPr/>
                </p:nvGrpSpPr>
                <p:grpSpPr>
                  <a:xfrm>
                    <a:off x="2802600" y="3768840"/>
                    <a:ext cx="1958400" cy="1061280"/>
                    <a:chOff x="2802600" y="3768840"/>
                    <a:chExt cx="1958400" cy="1061280"/>
                  </a:xfrm>
                </p:grpSpPr>
                <p:sp>
                  <p:nvSpPr>
                    <p:cNvPr id="414" name=""/>
                    <p:cNvSpPr/>
                    <p:nvPr/>
                  </p:nvSpPr>
                  <p:spPr>
                    <a:xfrm>
                      <a:off x="285984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5" name=""/>
                    <p:cNvSpPr/>
                    <p:nvPr/>
                  </p:nvSpPr>
                  <p:spPr>
                    <a:xfrm>
                      <a:off x="280260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6" name=""/>
                  <p:cNvGrpSpPr/>
                  <p:nvPr/>
                </p:nvGrpSpPr>
                <p:grpSpPr>
                  <a:xfrm>
                    <a:off x="4761720" y="3768840"/>
                    <a:ext cx="1958400" cy="1061280"/>
                    <a:chOff x="4761720" y="3768840"/>
                    <a:chExt cx="1958400" cy="1061280"/>
                  </a:xfrm>
                </p:grpSpPr>
                <p:sp>
                  <p:nvSpPr>
                    <p:cNvPr id="417" name=""/>
                    <p:cNvSpPr/>
                    <p:nvPr/>
                  </p:nvSpPr>
                  <p:spPr>
                    <a:xfrm>
                      <a:off x="481896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compar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signific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8" name=""/>
                    <p:cNvSpPr/>
                    <p:nvPr/>
                  </p:nvSpPr>
                  <p:spPr>
                    <a:xfrm>
                      <a:off x="476172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9" name=""/>
                  <p:cNvGrpSpPr/>
                  <p:nvPr/>
                </p:nvGrpSpPr>
                <p:grpSpPr>
                  <a:xfrm>
                    <a:off x="6720840" y="3768840"/>
                    <a:ext cx="1958400" cy="1061280"/>
                    <a:chOff x="6720840" y="3768840"/>
                    <a:chExt cx="1958400" cy="1061280"/>
                  </a:xfrm>
                </p:grpSpPr>
                <p:sp>
                  <p:nvSpPr>
                    <p:cNvPr id="420" name=""/>
                    <p:cNvSpPr/>
                    <p:nvPr/>
                  </p:nvSpPr>
                  <p:spPr>
                    <a:xfrm>
                      <a:off x="6778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Discriminante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anónico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1" name=""/>
                    <p:cNvSpPr/>
                    <p:nvPr/>
                  </p:nvSpPr>
                  <p:spPr>
                    <a:xfrm>
                      <a:off x="6720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2" name=""/>
                  <p:cNvGrpSpPr/>
                  <p:nvPr/>
                </p:nvGrpSpPr>
                <p:grpSpPr>
                  <a:xfrm>
                    <a:off x="843840" y="4830480"/>
                    <a:ext cx="1958400" cy="1640520"/>
                    <a:chOff x="843840" y="4830480"/>
                    <a:chExt cx="1958400" cy="1640520"/>
                  </a:xfrm>
                </p:grpSpPr>
                <p:sp>
                  <p:nvSpPr>
                    <p:cNvPr id="423" name=""/>
                    <p:cNvSpPr/>
                    <p:nvPr/>
                  </p:nvSpPr>
                  <p:spPr>
                    <a:xfrm>
                      <a:off x="901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étodos no parametric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4" name=""/>
                    <p:cNvSpPr/>
                    <p:nvPr/>
                  </p:nvSpPr>
                  <p:spPr>
                    <a:xfrm>
                      <a:off x="843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5" name=""/>
                  <p:cNvGrpSpPr/>
                  <p:nvPr/>
                </p:nvGrpSpPr>
                <p:grpSpPr>
                  <a:xfrm>
                    <a:off x="2802600" y="4830480"/>
                    <a:ext cx="1958400" cy="1640520"/>
                    <a:chOff x="2802600" y="4830480"/>
                    <a:chExt cx="1958400" cy="1640520"/>
                  </a:xfrm>
                </p:grpSpPr>
                <p:sp>
                  <p:nvSpPr>
                    <p:cNvPr id="426" name=""/>
                    <p:cNvSpPr/>
                    <p:nvPr/>
                  </p:nvSpPr>
                  <p:spPr>
                    <a:xfrm>
                      <a:off x="285984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7" name=""/>
                    <p:cNvSpPr/>
                    <p:nvPr/>
                  </p:nvSpPr>
                  <p:spPr>
                    <a:xfrm>
                      <a:off x="280260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8" name=""/>
                  <p:cNvGrpSpPr/>
                  <p:nvPr/>
                </p:nvGrpSpPr>
                <p:grpSpPr>
                  <a:xfrm>
                    <a:off x="4761720" y="4830480"/>
                    <a:ext cx="1958400" cy="1640520"/>
                    <a:chOff x="4761720" y="4830480"/>
                    <a:chExt cx="1958400" cy="1640520"/>
                  </a:xfrm>
                </p:grpSpPr>
                <p:sp>
                  <p:nvSpPr>
                    <p:cNvPr id="429" name=""/>
                    <p:cNvSpPr/>
                    <p:nvPr/>
                  </p:nvSpPr>
                  <p:spPr>
                    <a:xfrm>
                      <a:off x="481896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0" name=""/>
                    <p:cNvSpPr/>
                    <p:nvPr/>
                  </p:nvSpPr>
                  <p:spPr>
                    <a:xfrm>
                      <a:off x="476172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1" name=""/>
                  <p:cNvGrpSpPr/>
                  <p:nvPr/>
                </p:nvGrpSpPr>
                <p:grpSpPr>
                  <a:xfrm>
                    <a:off x="6720840" y="4830480"/>
                    <a:ext cx="1958400" cy="1640520"/>
                    <a:chOff x="6720840" y="4830480"/>
                    <a:chExt cx="1958400" cy="1640520"/>
                  </a:xfrm>
                </p:grpSpPr>
                <p:sp>
                  <p:nvSpPr>
                    <p:cNvPr id="432" name=""/>
                    <p:cNvSpPr/>
                    <p:nvPr/>
                  </p:nvSpPr>
                  <p:spPr>
                    <a:xfrm>
                      <a:off x="6778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3" name=""/>
                    <p:cNvSpPr/>
                    <p:nvPr/>
                  </p:nvSpPr>
                  <p:spPr>
                    <a:xfrm>
                      <a:off x="6720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434" name=""/>
                <p:cNvSpPr/>
                <p:nvPr/>
              </p:nvSpPr>
              <p:spPr>
                <a:xfrm>
                  <a:off x="838080" y="1814400"/>
                  <a:ext cx="7848360" cy="4662360"/>
                </a:xfrm>
                <a:prstGeom prst="rect">
                  <a:avLst/>
                </a:prstGeom>
                <a:noFill/>
                <a:ln w="11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5" name=""/>
              <p:cNvSpPr/>
              <p:nvPr/>
            </p:nvSpPr>
            <p:spPr>
              <a:xfrm>
                <a:off x="2895480" y="3792600"/>
                <a:ext cx="1981440" cy="70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Conformidad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Significació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858000" y="5181480"/>
                <a:ext cx="1676520" cy="132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rne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Redes neuronales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952880" y="5257800"/>
                <a:ext cx="1676520" cy="10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Spearma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nda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7F74-E6E4-418E-9C20-C11275AE87AA}" type="slidenum">
              <a:t>30</a:t>
            </a:fld>
          </a:p>
        </p:txBody>
      </p:sp>
    </p:spTree>
  </p:cSld>
  <p:transition>
    <p:random/>
  </p:transition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0" y="304920"/>
            <a:ext cx="9144000" cy="66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>
              <a:lnSpc>
                <a:spcPct val="100000"/>
              </a:lnSpc>
              <a:spcBef>
                <a:spcPts val="1500"/>
              </a:spcBef>
              <a:buClr>
                <a:srgbClr val="d20000"/>
              </a:buClr>
              <a:buFont typeface="Comic Sans MS"/>
              <a:buAutoNum type="roman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CONCLU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investigación (por encuesta o por experimentación) debe ser objeto de una rigurosa planificación “Investigamos o vamos a la playa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Rol de la estadística en la investigación científica es centr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Ningún análisis estadístico “elaborado” no merece ser realizado para datos de mala cali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uidado!!!! Con la utilización de los paquetes estadísticos cada vez mas al alcance de los no especialis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necesidad de un trabajo coordinado “investigador - estadístico”, debiera ser una práctica corriente en la investigación científica responsabl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mportancia de los servicios de apoyo en aspectos cuantitativos al interior de los centros de investigación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FBA4-A5EB-4DF9-9187-060C7CA216E5}" type="slidenum">
              <a:t>31</a:t>
            </a:fld>
          </a:p>
        </p:txBody>
      </p:sp>
    </p:spTree>
  </p:cSld>
  <p:transition spd="slow">
    <p:zoom dir="in"/>
  </p:transition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fill="hold">
                      <p:stCondLst>
                        <p:cond delay="0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0" y="304920"/>
            <a:ext cx="91440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EJEMPLO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16000" y="2421000"/>
            <a:ext cx="9144000" cy="23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48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Evaluar el rendimiento académico en la Facultad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de Ciencias y Tecnología de la UMS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E96D-31D8-4033-A416-2DF9D15DCF6B}" type="slidenum">
              <a:t>32</a:t>
            </a:fld>
          </a:p>
        </p:txBody>
      </p:sp>
    </p:spTree>
  </p:cSld>
  <p:transition spd="slow">
    <p:zoom dir="in"/>
  </p:transition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fill="hold">
                      <p:stCondLst>
                        <p:cond delay="0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500"/>
                            </p:stCondLst>
                            <p:childTnLst>
                              <p:par>
                                <p:cTn id="9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152280" y="152280"/>
            <a:ext cx="59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jemplo: </a:t>
            </a:r>
            <a:r>
              <a:rPr b="0" lang="es-ES_tradnl" sz="2400" spc="-1" strike="noStrike">
                <a:solidFill>
                  <a:srgbClr val="d20000"/>
                </a:solidFill>
                <a:latin typeface="Times New Roman"/>
              </a:rPr>
              <a:t>MATRIZ MAPI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52280" y="609480"/>
            <a:ext cx="89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valuación del rendimiento académico en la Facultad de Humanidad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0492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828800" y="127944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886200" y="1219320"/>
            <a:ext cx="23623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de colec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Times New Roman"/>
              </a:rPr>
              <a:t>(Fuentes de colecta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304920" y="1066680"/>
            <a:ext cx="8610480" cy="5562720"/>
            <a:chOff x="304920" y="1066680"/>
            <a:chExt cx="8610480" cy="5562720"/>
          </a:xfrm>
        </p:grpSpPr>
        <p:sp>
          <p:nvSpPr>
            <p:cNvPr id="447" name=""/>
            <p:cNvSpPr/>
            <p:nvPr/>
          </p:nvSpPr>
          <p:spPr>
            <a:xfrm>
              <a:off x="304920" y="1066680"/>
              <a:ext cx="8610480" cy="5562720"/>
            </a:xfrm>
            <a:prstGeom prst="rect">
              <a:avLst/>
            </a:prstGeom>
            <a:noFill/>
            <a:ln w="57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0384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9810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0958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04920" y="198108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84872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04920" y="342900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04920" y="533412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94360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8153280" y="108108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990099"/>
                </a:solidFill>
                <a:latin typeface="Times New Roman"/>
              </a:rPr>
              <a:t>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04920" y="20574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Estimar el rendimiento promedio de la materia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04920" y="3505320"/>
            <a:ext cx="1752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dentificación de factores que inciden en el rendimiento académ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04920" y="52578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Comparación del rendimiento por sex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05120" y="2209680"/>
            <a:ext cx="2133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(Cualit. Ordinal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930320" y="3429000"/>
            <a:ext cx="2286000" cy="21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2: hrs. de estudio en 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la casa por día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3: Sex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4: Tipo de Colegi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800600" y="3429000"/>
            <a:ext cx="2286000" cy="19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trevi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cue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962520" y="35812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038480" y="39625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038480" y="457200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038480" y="4876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962520" y="51814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572360" y="2286000"/>
            <a:ext cx="13266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visión de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886200" y="2590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172200" y="2209680"/>
            <a:ext cx="1752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ntervalo de confianza de un promedi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095880" y="3962520"/>
            <a:ext cx="1752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Regresión Logística Ordin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867280" y="556272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Mann-Whitney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095880" y="594360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Paramétr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978920" y="5545080"/>
            <a:ext cx="182376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EB85-0EB3-4153-9BF9-2DBF4D44098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6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1" dur="77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2" dur="770" fill="hold"/>
                                        <p:tgtEl>
                                          <p:spTgt spid="4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74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6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77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1" dur="770" fill="hold"/>
                                        <p:tgtEl>
                                          <p:spTgt spid="4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3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5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9" dur="77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0" dur="770" fill="hold"/>
                                        <p:tgtEl>
                                          <p:spTgt spid="4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2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4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8" dur="77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9" dur="770" fill="hold"/>
                                        <p:tgtEl>
                                          <p:spTgt spid="4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1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3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77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0" dur="770" fill="hold"/>
                                        <p:tgtEl>
                                          <p:spTgt spid="4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2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4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77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9" dur="770" fill="hold"/>
                                        <p:tgtEl>
                                          <p:spTgt spid="4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1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3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77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8" dur="770" fill="hold"/>
                                        <p:tgtEl>
                                          <p:spTgt spid="4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0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2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6" dur="77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7" dur="770" fill="hold"/>
                                        <p:tgtEl>
                                          <p:spTgt spid="4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9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1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77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8" dur="770" fill="hold"/>
                                        <p:tgtEl>
                                          <p:spTgt spid="4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50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52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5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4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7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3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6" dur="77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7" dur="770" fill="hold"/>
                                        <p:tgtEl>
                                          <p:spTgt spid="4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79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1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5" dur="77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6" dur="770" fill="hold"/>
                                        <p:tgtEl>
                                          <p:spTgt spid="4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88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90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6" dur="77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7" dur="770" fill="hold"/>
                                        <p:tgtEl>
                                          <p:spTgt spid="4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9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1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5" dur="77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6" dur="770" fill="hold"/>
                                        <p:tgtEl>
                                          <p:spTgt spid="4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8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0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4" dur="77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5" dur="770" fill="hold"/>
                                        <p:tgtEl>
                                          <p:spTgt spid="4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7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9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3" dur="77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4" dur="770" fill="hold"/>
                                        <p:tgtEl>
                                          <p:spTgt spid="4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26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8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2" dur="77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3" dur="770" fill="hold"/>
                                        <p:tgtEl>
                                          <p:spTgt spid="4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5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7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3" dur="77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4" dur="770" fill="hold"/>
                                        <p:tgtEl>
                                          <p:spTgt spid="4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6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48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762760" cy="36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800" spc="-1" strike="noStrike">
                <a:solidFill>
                  <a:srgbClr val="35cd35"/>
                </a:solidFill>
                <a:latin typeface="Comic Sans MS"/>
              </a:rPr>
              <a:t>GRACIAS POR SU ATENCION!!!!</a:t>
            </a:r>
            <a:br>
              <a:rPr sz="3600"/>
            </a:br>
            <a:br>
              <a:rPr sz="36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ENTRO DE ESTADISTICA APLICADA</a:t>
            </a:r>
            <a:br>
              <a:rPr sz="32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ONVENIO CIUF- UMSS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1498680" y="4687920"/>
            <a:ext cx="2065320" cy="176544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2"/>
          <a:stretch/>
        </p:blipFill>
        <p:spPr>
          <a:xfrm>
            <a:off x="5778360" y="4664160"/>
            <a:ext cx="2322720" cy="1789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C754-8685-488B-B039-BBC21FE12044}" type="slidenum">
              <a:t>34</a:t>
            </a:fld>
          </a:p>
        </p:txBody>
      </p:sp>
    </p:spTree>
  </p:cSld>
  <p:transition spd="slow">
    <p:zoom dir="in"/>
  </p:transition>
  <p:timing>
    <p:tnLst>
      <p:par>
        <p:cTn id="1150" dur="indefinite" restart="never" nodeType="tmRoot">
          <p:childTnLst>
            <p:seq>
              <p:cTn id="1151" dur="indefinite" nodeType="mainSeq">
                <p:childTnLst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6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9" dur="3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4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Times New Roman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4B5A-0B11-4EB0-96F7-AABA7FDF122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500"/>
                            </p:stCondLst>
                            <p:childTnLst>
                              <p:par>
                                <p:cTn id="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3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33520" y="304920"/>
            <a:ext cx="8762760" cy="52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DE PLANIFIC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objetivos -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de Observación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obl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 un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de Colecta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de datos (Cualitativo – Cuantitativo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lan de Muestre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Tamaño de la Muest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y esbozo</a:t>
            </a:r>
            <a:r>
              <a:rPr b="1" lang="es-MX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62D9-9C00-4481-B468-F9FC0661D74E}" type="slidenum">
              <a:t>5</a:t>
            </a:fld>
          </a:p>
        </p:txBody>
      </p:sp>
    </p:spTree>
  </p:cSld>
  <p:transition spd="med">
    <p:checker dir="horz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533520" y="304920"/>
            <a:ext cx="8762760" cy="47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EN INVESTIG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condiciones experimentale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ES_tradnl" sz="2000" spc="-1" strike="noStrike">
                <a:solidFill>
                  <a:srgbClr val="35cd35"/>
                </a:solidFill>
                <a:latin typeface="Comic Sans MS"/>
              </a:rPr>
              <a:t>Factores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Experimenta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Observacione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(variable de respuesta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Diseño Experiment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Matemático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6FBB-36AB-46DF-A34E-D60E34704C3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33520" y="304920"/>
            <a:ext cx="876276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7051-865B-448F-93F7-85B7F107C99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1628640"/>
            <a:ext cx="7467480" cy="49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Modelo conceptual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Objetivos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ecesidad de inform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l resultado esperado puede estar formulado bajo la forma de 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REGUN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o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ESPUES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(hipótesi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l finalizar esta etapa se dispone: Lista de resultados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</a:t>
            </a:r>
            <a:r>
              <a:rPr b="0" lang="es-ES" sz="2400" spc="-1" strike="noStrike" baseline="-25000">
                <a:solidFill>
                  <a:srgbClr val="0000ff"/>
                </a:solidFill>
                <a:latin typeface="Comic Sans MS"/>
              </a:rPr>
              <a:t>i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05120" y="623880"/>
            <a:ext cx="755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1. DEFINICIÓN DE RESULTADOS ESPERA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5DF8-868C-4A0A-A96A-84EF6D58ECFF}" type="slidenum">
              <a:t>8</a:t>
            </a:fld>
          </a:p>
        </p:txBody>
      </p:sp>
    </p:spTree>
  </p:cSld>
  <p:transition>
    <p:random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09480" y="22860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2. DEFINICIÓN DE LA POBLACIÓN Y UNIDADES DE OBSERV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640" y="1844640"/>
            <a:ext cx="884232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Conjunto de “individuos” a los cuales nos interesam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Población finita o infini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8800" y="3957480"/>
            <a:ext cx="849168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Unidades de observ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“Individuos” que son observ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Ejemplo: Personas, familias, empresas, marcas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5DEB-5A10-4E41-8393-A15E9006E822}" type="slidenum">
              <a:t>9</a:t>
            </a:fld>
          </a:p>
        </p:txBody>
      </p:sp>
    </p:spTree>
  </p:cSld>
  <p:transition>
    <p:random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3T19:04:21Z</dcterms:created>
  <dc:creator>Usuario Privado</dc:creator>
  <dc:description/>
  <dc:language>en-US</dc:language>
  <cp:lastModifiedBy>CESA</cp:lastModifiedBy>
  <dcterms:modified xsi:type="dcterms:W3CDTF">2004-05-25T19:26:43Z</dcterms:modified>
  <cp:revision>133</cp:revision>
  <dc:subject/>
  <dc:title>ROL DE LA ESTADISTICA APLICADA EN INVESTIGACION CIENTIFICA</dc:title>
</cp:coreProperties>
</file>