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chimes.wav" ContentType="audio/x-wav"/>
  <Override PartName="/ppt/media/setup0.wav" ContentType="audio/x-wav"/>
  <Override PartName="/ppt/media/Robotz.%20Error.wav" ContentType="audio/x-wav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LUIS  VILLARROEL" initials="L V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<Relationship Id="rId39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1996-03-29T05:47:45.040000000" idx="1">
    <p:pos x="65808" y="7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5BD7-4CE0-421B-920B-DFAF0E8A2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F7F0-B69B-4A89-8F5E-25AEFE1DC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87C-5692-4810-B49B-323057BE3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B8D1-77B6-4EF8-98EB-9115E76EB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29495-06A8-4189-812F-6796A6E84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B19F-CD4A-4CBF-833E-129D8BF6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02379-F643-4E02-98AB-183B0D24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2925F-A476-426D-B412-75AC7581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B95DC-9582-4B4D-9B21-5941FA9A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F15FA-39EB-4344-A842-9283A7453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0252-0567-4610-A892-2598AA716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D9E5-0BB8-4892-98C0-59D31B90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B13B0-0F5B-41DB-AB46-515019F7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8B314-09CA-4AF4-B207-333EF556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8AA09-39BA-4F4E-97FF-03873F7D1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3373-B67A-4701-91B9-6CC65E1FA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3963C-B0C9-4AE9-84A5-1865992F7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0EDB-9366-417F-BCAF-AAE4AFBE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D4CD-604C-4DEE-9122-DD811D1E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A185-58E9-4001-93FC-1B41F88D1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09E3-FF91-43E6-90E8-686C85F6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841F-8E21-4BEC-8DC7-F299848A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24F-6481-417C-B7AF-A0152AEB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C987-02AE-4EBB-BA62-C9489491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BB21-7807-4200-8E91-B02D619E9CE1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47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E0E66-00CA-48AE-B84D-A6A9E5037ED8}" type="slidenum">
              <a:rPr b="0" lang="es-E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audio" Target="../media/setup0.wav"/><Relationship Id="rId5" Type="http://schemas.openxmlformats.org/officeDocument/2006/relationships/audio" Target="../media/Robotz.%20Error.wav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Robotz.%20Error.wav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d20000"/>
                </a:solidFill>
                <a:latin typeface="Comic Sans MS"/>
              </a:rPr>
              <a:t>METODOLOGIA DE LA INVESTIGACION: MATRIZ MAPIC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4280" y="5334120"/>
            <a:ext cx="9144000" cy="1523880"/>
            <a:chOff x="44280" y="5334120"/>
            <a:chExt cx="9144000" cy="15238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7735680" y="5334120"/>
              <a:ext cx="145260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44280" y="5334120"/>
              <a:ext cx="1676520" cy="1522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5" name=""/>
          <p:cNvSpPr/>
          <p:nvPr/>
        </p:nvSpPr>
        <p:spPr>
          <a:xfrm>
            <a:off x="1474920" y="3932280"/>
            <a:ext cx="6192720" cy="15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5000"/>
          </a:bodyPr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Expositor: Ms. Sc. Luis Villarroel P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523800" indent="-523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33"/>
                </a:solidFill>
                <a:latin typeface="Comic Sans MS"/>
              </a:rPr>
              <a:t>Cochabamba, mayo 200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8920" y="333360"/>
            <a:ext cx="810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Proyecto Centro de Estadística Aplicada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cc"/>
                </a:solidFill>
                <a:latin typeface="Comic Sans MS"/>
              </a:rPr>
              <a:t>CES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953C-73A5-4AA1-A175-EDF6F3DE3A15}" type="slidenum">
              <a:t>1</a:t>
            </a:fld>
          </a:p>
        </p:txBody>
      </p:sp>
    </p:spTree>
  </p:cSld>
  <p:transition spd="slow">
    <p:strips dir="lu"/>
    <p:sndAc>
      <p:stSnd>
        <p:snd r:embed="rId3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etup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3500"/>
                            </p:stCondLst>
                            <p:childTnLst>
                              <p:par>
                                <p:cTn id="2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22520" y="1854360"/>
            <a:ext cx="7536960" cy="15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¿Que es una variable?</a:t>
            </a:r>
            <a:r>
              <a:rPr b="0" i="1" lang="es-ES_tradnl" sz="2400" spc="-1" strike="noStrike">
                <a:solidFill>
                  <a:srgbClr val="0066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Características o atributos de los “individuo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estudiar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76480" y="636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49520" y="3432240"/>
            <a:ext cx="568764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Existen dos problemas a resolv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Número de variab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Naturaleza del dat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24A8-A876-4BE4-B425-594C626648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2193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Variables categóricas y variables rea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69960" y="1908000"/>
            <a:ext cx="80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cc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categóricas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o cualitativas</a:t>
            </a: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son aquellas que toman un número limitado de modalidade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l sexo, estado civil, 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A cada modalidad corresponde una categoría de individuos; estas categorías forman una partición de la població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506840"/>
            <a:ext cx="80773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90000"/>
              </a:lnSpc>
              <a:spcBef>
                <a:spcPts val="1500"/>
              </a:spcBef>
              <a:buClr>
                <a:srgbClr val="ffffcc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Variables reales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o cuantitativas son las que toman valores reales para los cuales podemos calcular resúmenes numéricos ( media, varianza,... )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jemplo : edad, ingreso,rendimiento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62388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 DEFINICION DE LAS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271F-0A12-431A-98B1-032959E7FF8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56440" y="1295280"/>
            <a:ext cx="24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Tipos de datos: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989000"/>
            <a:ext cx="7543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medición – continu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de conteo - discre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3880" y="690480"/>
            <a:ext cx="57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3.DEFINICION DE LAS VARIABLE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120" y="3645000"/>
            <a:ext cx="754380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Datos 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binari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ord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Datos nomina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2A5C-B3BC-4022-BCC4-70E350CC28C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3520" y="3952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3. DEFINICIÓN 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219320" y="2286000"/>
            <a:ext cx="6628680" cy="3580920"/>
            <a:chOff x="1219320" y="2286000"/>
            <a:chExt cx="6628680" cy="3580920"/>
          </a:xfrm>
        </p:grpSpPr>
        <p:grpSp>
          <p:nvGrpSpPr>
            <p:cNvPr id="125" name=""/>
            <p:cNvGrpSpPr/>
            <p:nvPr/>
          </p:nvGrpSpPr>
          <p:grpSpPr>
            <a:xfrm>
              <a:off x="1229040" y="2290680"/>
              <a:ext cx="6607440" cy="3570840"/>
              <a:chOff x="1229040" y="2290680"/>
              <a:chExt cx="6607440" cy="3570840"/>
            </a:xfrm>
          </p:grpSpPr>
          <p:grpSp>
            <p:nvGrpSpPr>
              <p:cNvPr id="126" name=""/>
              <p:cNvGrpSpPr/>
              <p:nvPr/>
            </p:nvGrpSpPr>
            <p:grpSpPr>
              <a:xfrm>
                <a:off x="1229040" y="2290680"/>
                <a:ext cx="3228120" cy="1033200"/>
                <a:chOff x="1229040" y="2290680"/>
                <a:chExt cx="3228120" cy="1033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323720" y="2290680"/>
                  <a:ext cx="303840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RESULTADOS 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ESPERADOS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229040" y="2290680"/>
                  <a:ext cx="322812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457880" y="2290680"/>
                <a:ext cx="3378600" cy="1033200"/>
                <a:chOff x="4457880" y="2290680"/>
                <a:chExt cx="3378600" cy="1033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553640" y="2290680"/>
                  <a:ext cx="3187080" cy="1033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ffffcc"/>
                      </a:solidFill>
                      <a:latin typeface="Comic Sans MS"/>
                    </a:rPr>
                    <a:t>VARIABLES – TIPO DE VARIABLE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457880" y="2290680"/>
                  <a:ext cx="3378600" cy="1033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1229040" y="3324240"/>
                <a:ext cx="3228120" cy="845280"/>
                <a:chOff x="1229040" y="3324240"/>
                <a:chExt cx="3228120" cy="845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323720" y="3324240"/>
                  <a:ext cx="303840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29040" y="3324240"/>
                  <a:ext cx="322812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457880" y="3324240"/>
                <a:ext cx="3378600" cy="845280"/>
                <a:chOff x="4457880" y="3324240"/>
                <a:chExt cx="3378600" cy="845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53640" y="3324240"/>
                  <a:ext cx="3187080" cy="84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 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n-US" sz="18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 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litativa, Binari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457880" y="3324240"/>
                  <a:ext cx="3378600" cy="84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229040" y="4170240"/>
                <a:ext cx="3228120" cy="1032840"/>
                <a:chOff x="1229040" y="4170240"/>
                <a:chExt cx="3228120" cy="10328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323720" y="4170240"/>
                  <a:ext cx="303840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2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229040" y="4170240"/>
                  <a:ext cx="322812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457880" y="4170240"/>
                <a:ext cx="3378600" cy="1032840"/>
                <a:chOff x="4457880" y="4170240"/>
                <a:chExt cx="3378600" cy="1032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553640" y="4170240"/>
                  <a:ext cx="3187080" cy="103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3 (Cualitativa, Ord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1 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X4 (Cualitativa, Nominal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457880" y="4170240"/>
                  <a:ext cx="3378600" cy="1032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1229040" y="5203800"/>
                <a:ext cx="3228120" cy="657720"/>
                <a:chOff x="1229040" y="5203800"/>
                <a:chExt cx="3228120" cy="657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1323720" y="5203800"/>
                  <a:ext cx="303840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cc"/>
                      </a:solidFill>
                      <a:latin typeface="Comic Sans MS"/>
                    </a:rPr>
                    <a:t>R</a:t>
                  </a:r>
                  <a:r>
                    <a:rPr b="0" lang="en-US" sz="2000" spc="-1" strike="noStrike" baseline="-30000">
                      <a:solidFill>
                        <a:srgbClr val="ffffcc"/>
                      </a:solidFill>
                      <a:latin typeface="Comic Sans MS"/>
                    </a:rPr>
                    <a:t>3</a:t>
                  </a: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1229040" y="5203800"/>
                  <a:ext cx="322812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457880" y="5203800"/>
                <a:ext cx="3378600" cy="657720"/>
                <a:chOff x="4457880" y="5203800"/>
                <a:chExt cx="3378600" cy="657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553640" y="5203800"/>
                  <a:ext cx="3187080" cy="65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X</a:t>
                  </a:r>
                  <a:r>
                    <a:rPr b="0" lang="es-ES_tradnl" sz="1800" spc="-1" strike="noStrike">
                      <a:solidFill>
                        <a:srgbClr val="ffffcc"/>
                      </a:solidFill>
                      <a:latin typeface="Comic Sans MS"/>
                    </a:rPr>
                    <a:t>1 </a:t>
                  </a:r>
                  <a:r>
                    <a:rPr b="0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(Cuantitativa, Continua)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457880" y="5203800"/>
                  <a:ext cx="3378600" cy="657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1219320" y="2286000"/>
              <a:ext cx="6628680" cy="3580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723600" y="1219320"/>
            <a:ext cx="366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Número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de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DB5-D8A8-48E7-A7FD-7A74722ECF9D}" type="slidenum">
              <a:t>13</a:t>
            </a:fld>
          </a:p>
        </p:txBody>
      </p:sp>
    </p:spTree>
  </p:cSld>
  <p:transition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Prim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l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Cuantitativ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ncuesta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xperiment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70800" y="1197000"/>
            <a:ext cx="412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Fuentes de inform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438624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Comic Sans MS"/>
              </a:rPr>
              <a:t>Secundari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Internas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Registr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In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Externas</a:t>
            </a:r>
            <a:r>
              <a:rPr b="0" lang="es-ES" sz="18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Publicacion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Estadísticas sectoriale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ffcc"/>
                </a:solidFill>
                <a:latin typeface="Comic Sans MS"/>
              </a:rPr>
              <a:t>Informes Externo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BED4-AD7F-47E6-832D-8BFFF6BA9647}" type="slidenum">
              <a:t>14</a:t>
            </a:fld>
          </a:p>
        </p:txBody>
      </p:sp>
    </p:spTree>
  </p:cSld>
  <p:transition>
    <p:random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85200" y="1197000"/>
            <a:ext cx="513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Métodos de colecta primari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395280" y="2133720"/>
          <a:ext cx="8280360" cy="4365360"/>
        </p:xfrm>
        <a:graphic>
          <a:graphicData uri="http://schemas.openxmlformats.org/drawingml/2006/table">
            <a:tbl>
              <a:tblPr/>
              <a:tblGrid>
                <a:gridCol w="4140360"/>
                <a:gridCol w="4140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ÓN CUANT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INVESTIGACION CUALITATIVA</a:t>
                      </a:r>
                      <a:endParaRPr b="0" lang="en-US" sz="20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usca las causas sin recurrir a la interpretación subje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nterés por comprender el comportamiento human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lógico-positivist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Aproximación fenomenológic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controlad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edición observacional natural, sin contro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bjetivismo, perspectiva ex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Subjetivismo, perspectiva itern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verificacionista, confirmatoria, reduccionista, inferencial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descubrimiento, exploratoria, descriptiva, inductiva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resultad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Orientación hacia el proceso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56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 la formalidad, datos exactos y riguroso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Importancia del contenido, datos reales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3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articular – Intenta anal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General – Intenta sintetizar</a:t>
                      </a:r>
                      <a:endParaRPr b="0" lang="en-US" sz="1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8E0F-4444-4F55-B591-773D54E7996E}" type="slidenum">
              <a:t>15</a:t>
            </a:fld>
          </a:p>
        </p:txBody>
      </p:sp>
    </p:spTree>
  </p:cSld>
  <p:transition>
    <p:random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87000" y="1197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l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2720" y="213372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ntrevistas en profund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Reuniones de grup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Semi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hillips 66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Delph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Indirect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proyectiv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écnicas de creativida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Observación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de Conteni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uditor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8D89-6256-4C8D-A43E-67FDCE48D6C9}" type="slidenum">
              <a:t>16</a:t>
            </a:fld>
          </a:p>
        </p:txBody>
      </p:sp>
    </p:spTree>
  </p:cSld>
  <p:transition>
    <p:random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15000" y="646200"/>
            <a:ext cx="715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4. DEFINICIÓN DEL METODO DE COLECT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1197000"/>
            <a:ext cx="695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Comic Sans MS"/>
              </a:rPr>
              <a:t>Investigación cuantitativa y sus méto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2720" y="2133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</a:t>
            </a: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i="1" lang="es-ES" sz="2400" spc="-1" strike="noStrike">
                <a:solidFill>
                  <a:srgbClr val="00ff00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erso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ost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Telefón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ff00"/>
                </a:solidFill>
                <a:latin typeface="Comic Sans MS"/>
              </a:rPr>
              <a:t>Encuestas periódica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5B7D-73DB-4FCC-AADB-FCB9D806D66E}" type="slidenum">
              <a:t>17</a:t>
            </a:fld>
          </a:p>
        </p:txBody>
      </p:sp>
    </p:spTree>
  </p:cSld>
  <p:transition>
    <p:random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24000" y="907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Procedimientos de selección de “individuos” de la población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42280" y="228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685800" y="2122560"/>
            <a:ext cx="3504600" cy="1841760"/>
            <a:chOff x="685800" y="2122560"/>
            <a:chExt cx="3504600" cy="1841760"/>
          </a:xfrm>
        </p:grpSpPr>
        <p:sp>
          <p:nvSpPr>
            <p:cNvPr id="168" name=""/>
            <p:cNvSpPr/>
            <p:nvPr/>
          </p:nvSpPr>
          <p:spPr>
            <a:xfrm>
              <a:off x="685800" y="2357280"/>
              <a:ext cx="3352680" cy="1106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37880" y="212256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17440" y="3565440"/>
              <a:ext cx="91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Cens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48320" y="2262240"/>
            <a:ext cx="3632760" cy="1701360"/>
            <a:chOff x="4648320" y="2262240"/>
            <a:chExt cx="3632760" cy="1701360"/>
          </a:xfrm>
        </p:grpSpPr>
        <p:sp>
          <p:nvSpPr>
            <p:cNvPr id="172" name=""/>
            <p:cNvSpPr/>
            <p:nvPr/>
          </p:nvSpPr>
          <p:spPr>
            <a:xfrm>
              <a:off x="4648320" y="2459520"/>
              <a:ext cx="3352680" cy="1034280"/>
            </a:xfrm>
            <a:prstGeom prst="ellipse">
              <a:avLst/>
            </a:prstGeom>
            <a:gradFill rotWithShape="0">
              <a:gsLst>
                <a:gs pos="0">
                  <a:srgbClr val="754617"/>
                </a:gs>
                <a:gs pos="50000">
                  <a:srgbClr val="ff9933"/>
                </a:gs>
                <a:gs pos="100000">
                  <a:srgbClr val="754617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928560" y="2262240"/>
              <a:ext cx="135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Población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334120" y="2854080"/>
              <a:ext cx="1523880" cy="44208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Comic Sans MS"/>
                </a:rPr>
                <a:t>Muestra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6040" y="3564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ffcc"/>
                  </a:solidFill>
                  <a:latin typeface="Comic Sans MS"/>
                </a:rPr>
                <a:t>Muestre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250920" y="4338720"/>
            <a:ext cx="88930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n el caso de un plan de muestreo se plantean dos pregunta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55022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xtrapolar a la población entera los resultados que se observaron sobre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63720" y="4956120"/>
            <a:ext cx="40356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¿cómo elegir la muestra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11840" y="762120"/>
            <a:ext cx="450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¿Qué es un plan de muestreo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497D-084D-4754-8391-BDAAB60F92D1}" type="slidenum">
              <a:t>18</a:t>
            </a:fld>
          </a:p>
        </p:txBody>
      </p:sp>
    </p:spTree>
  </p:cSld>
  <p:transition>
    <p:random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09480" y="3200400"/>
            <a:ext cx="403884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1337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447920"/>
            <a:ext cx="82296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lemento clave: representatividad de la muestra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42280" y="41760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365760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8000" indent="-378000">
              <a:lnSpc>
                <a:spcPct val="100000"/>
              </a:lnSpc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probabilisticos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562720" y="2666880"/>
            <a:ext cx="3581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638680" y="3505320"/>
            <a:ext cx="40388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4572000"/>
            <a:ext cx="2895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aza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62120" y="2057400"/>
            <a:ext cx="33526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Comic Sans MS"/>
              </a:rPr>
              <a:t>Tipos de muestreo</a:t>
            </a:r>
            <a:r>
              <a:rPr b="0" lang="es-ES_tradnl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B851-B265-4C48-88EE-1E2193364153}" type="slidenum">
              <a:t>19</a:t>
            </a:fld>
          </a:p>
        </p:txBody>
      </p:sp>
    </p:spTree>
  </p:cSld>
  <p:transition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1000"/>
                            </p:stCondLst>
                            <p:childTnLst>
                              <p:par>
                                <p:cTn id="39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50560" y="2123640"/>
            <a:ext cx="8692920" cy="396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d0ff4d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CONTENID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.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Introducción – Objetivos – problemas en investig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.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Bases metodológicas para el diseño de la investigación – Matri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MAPIC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II. Herramientas para el análisis e interpretación de dato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omic Sans MS"/>
              </a:rPr>
              <a:t>IV.   Conclusion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CB496-6737-404E-ABDC-B3B43B4707D3}" type="slidenum">
              <a:t>2</a:t>
            </a:fld>
          </a:p>
        </p:txBody>
      </p:sp>
    </p:spTree>
  </p:cSld>
  <p:transition spd="slow">
    <p:strips dir="lu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Robotz.%20Err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8600" y="2819520"/>
            <a:ext cx="4038480" cy="1371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ffffcc"/>
            </a:solidFill>
            <a:miter/>
          </a:ln>
          <a:effectLst>
            <a:outerShdw dist="107932" dir="189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800600" y="1905120"/>
            <a:ext cx="3886200" cy="3962160"/>
          </a:xfrm>
          <a:prstGeom prst="cube">
            <a:avLst>
              <a:gd name="adj" fmla="val 6435"/>
            </a:avLst>
          </a:prstGeom>
          <a:gradFill rotWithShape="0">
            <a:gsLst>
              <a:gs pos="0">
                <a:srgbClr val="ff9933"/>
              </a:gs>
              <a:gs pos="100000">
                <a:srgbClr val="74451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880" y="327672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lanes no probabilístic</a:t>
            </a: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o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42280" y="61596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304812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La selección de “individuos” se responsabiliza al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investigador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57800" y="46036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Existe un buen conocimiento de la 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222552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o es posible medir el erro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20B1-3610-4DF8-B5A7-38BD90CD5CFD}" type="slidenum">
              <a:t>20</a:t>
            </a:fld>
          </a:p>
        </p:txBody>
      </p:sp>
    </p:spTree>
  </p:cSld>
  <p:transition>
    <p:random/>
  </p:transition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37360" y="554040"/>
            <a:ext cx="685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FINICIÓN DEL PLAN DE MUESTRE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371600" y="475308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onveni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por cuo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“bola de nieve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3706920"/>
            <a:ext cx="64767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de muestreo no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98560" y="181944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es probabilistic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87600" y="2637000"/>
            <a:ext cx="7467480" cy="113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aleatorio y si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estratificad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lan de muestreo conglom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CD4-693D-4953-B27B-071A5D8D6BC0}" type="slidenum">
              <a:t>21</a:t>
            </a:fld>
          </a:p>
        </p:txBody>
      </p:sp>
    </p:spTree>
  </p:cSld>
  <p:transition>
    <p:random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762120" y="190512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Problema “complejo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ivel descriptivo – nivel inferenci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-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Criterios: Resultados esperados, variables que participan en el resultado, tipo de dato, método estadístico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198360" indent="-198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33520" y="304920"/>
            <a:ext cx="786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6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. DETERMINACIÓN DEL TAMAÑO DE LA MUESTR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71C37-4A2C-4970-BC59-1C5FC433CC7E}" type="slidenum">
              <a:t>22</a:t>
            </a:fld>
          </a:p>
        </p:txBody>
      </p:sp>
    </p:spTree>
  </p:cSld>
  <p:transition>
    <p:random/>
  </p:transition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70400" y="70632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1560" y="1143000"/>
            <a:ext cx="6218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provechamiento de los datos colect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29200" y="1981080"/>
            <a:ext cx="3926160" cy="2184480"/>
            <a:chOff x="5029200" y="1981080"/>
            <a:chExt cx="3926160" cy="2184480"/>
          </a:xfrm>
        </p:grpSpPr>
        <p:sp>
          <p:nvSpPr>
            <p:cNvPr id="206" name=""/>
            <p:cNvSpPr/>
            <p:nvPr/>
          </p:nvSpPr>
          <p:spPr>
            <a:xfrm>
              <a:off x="5029200" y="1981080"/>
              <a:ext cx="3886200" cy="218448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82920" y="2552760"/>
              <a:ext cx="3772440" cy="86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 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descriptivo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RESUMEN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2819520" y="4419720"/>
            <a:ext cx="3763080" cy="2057400"/>
            <a:chOff x="2819520" y="4419720"/>
            <a:chExt cx="3763080" cy="2057400"/>
          </a:xfrm>
        </p:grpSpPr>
        <p:sp>
          <p:nvSpPr>
            <p:cNvPr id="209" name=""/>
            <p:cNvSpPr/>
            <p:nvPr/>
          </p:nvSpPr>
          <p:spPr>
            <a:xfrm>
              <a:off x="2819520" y="4419720"/>
              <a:ext cx="3708360" cy="205740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16720" y="4848120"/>
              <a:ext cx="366588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inferencial de los datos: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GENERALIZACIÓN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185760" y="2057400"/>
            <a:ext cx="3967200" cy="2133720"/>
            <a:chOff x="185760" y="2057400"/>
            <a:chExt cx="3967200" cy="2133720"/>
          </a:xfrm>
        </p:grpSpPr>
        <p:sp>
          <p:nvSpPr>
            <p:cNvPr id="212" name=""/>
            <p:cNvSpPr/>
            <p:nvPr/>
          </p:nvSpPr>
          <p:spPr>
            <a:xfrm>
              <a:off x="185760" y="2057400"/>
              <a:ext cx="3967200" cy="2133720"/>
            </a:xfrm>
            <a:prstGeom prst="octagon">
              <a:avLst>
                <a:gd name="adj" fmla="val 29282"/>
              </a:avLst>
            </a:prstGeom>
            <a:gradFill rotWithShape="0">
              <a:gsLst>
                <a:gs pos="0">
                  <a:srgbClr val="fefefe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507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91240" y="2347920"/>
              <a:ext cx="3737520" cy="162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Análisis exploratorio de 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EDA (</a:t>
              </a:r>
              <a:r>
                <a:rPr b="0" i="1" lang="es-ES" sz="1800" spc="-1" strike="noStrike">
                  <a:solidFill>
                    <a:srgbClr val="006699"/>
                  </a:solidFill>
                  <a:latin typeface="Comic Sans MS"/>
                </a:rPr>
                <a:t>Exploring Data Analysis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) :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 </a:t>
              </a: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CONTROL DE CALIDAD DE 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6699"/>
                  </a:solidFill>
                  <a:latin typeface="Comic Sans MS"/>
                </a:rPr>
                <a:t>LOS DATOS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99040" y="2743200"/>
            <a:ext cx="830160" cy="609480"/>
          </a:xfrm>
          <a:prstGeom prst="rightArrow">
            <a:avLst>
              <a:gd name="adj1" fmla="val 43231"/>
              <a:gd name="adj2" fmla="val 56772"/>
            </a:avLst>
          </a:prstGeom>
          <a:gradFill rotWithShape="0">
            <a:gsLst>
              <a:gs pos="0">
                <a:srgbClr val="f4f8fa"/>
              </a:gs>
              <a:gs pos="50000">
                <a:srgbClr val="006699"/>
              </a:gs>
              <a:gs pos="100000">
                <a:srgbClr val="f4f8fa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rot="10800000">
            <a:off x="6594480" y="4176360"/>
            <a:ext cx="1371600" cy="16765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192" stAng="10800000" swAng="5400000"/>
                <a:lnTo>
                  <a:pt x="12825" y="3968"/>
                </a:lnTo>
                <a:lnTo>
                  <a:pt x="12825" y="0"/>
                </a:lnTo>
                <a:lnTo>
                  <a:pt x="21600" y="6079"/>
                </a:lnTo>
                <a:lnTo>
                  <a:pt x="12825" y="12158"/>
                </a:lnTo>
                <a:lnTo>
                  <a:pt x="12825" y="8190"/>
                </a:lnTo>
                <a:lnTo>
                  <a:pt x="12427" y="8190"/>
                </a:lnTo>
                <a:arcTo wR="8205" hR="3970" stAng="16200000" swAng="-5400000"/>
                <a:lnTo>
                  <a:pt x="422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50000">
                <a:srgbClr val="0066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BCA-EF43-406B-B2AA-6C3FD2BFBCCC}" type="slidenum">
              <a:t>23</a:t>
            </a:fld>
          </a:p>
        </p:txBody>
      </p:sp>
    </p:spTree>
  </p:cSld>
  <p:transition>
    <p:random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500"/>
                            </p:stCondLst>
                            <p:childTnLst>
                              <p:par>
                                <p:cTn id="53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334800"/>
            <a:ext cx="8763120" cy="59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 startAt="3"/>
              <a:tabLst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HERRAMIENTAS PARA EL ANALIS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3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“caja de herramientas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•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El problema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selección de un método estadístico y el tamaño de muestr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 Problema “complicado”, tema poco desarrollado en la literatu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Factores de selec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  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Número de 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- Tipo de los dat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687240"/>
                <a:tab algn="l" pos="91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MX" sz="2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E55C-6D08-48C7-94E7-A38287347275}" type="slidenum">
              <a:t>24</a:t>
            </a:fld>
          </a:p>
        </p:txBody>
      </p:sp>
    </p:spTree>
  </p:cSld>
  <p:transition spd="slow">
    <p:pull dir="d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324000" y="812880"/>
            <a:ext cx="79246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066680" indent="-60948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I.  HERRAMIENTAS PARA EL ANALISIS E INTERPRETACION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Definición de la Estadístic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njunto de métodos que tienen como objetivo, “juntar” y analizar los datos numéricos. DAGNEILLE [1998]. Tiene un rol esencial en las diferentes disciplinas científica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buClr>
                <a:srgbClr val="d2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La Estadística Aplica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Comic Sans MS"/>
              </a:rPr>
              <a:t>	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levar la estadística “a la puerta de las personas que están en la obligación de utilizar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2B1C-6D0A-49C4-8501-2ED07A7CF7BB}" type="slidenum">
              <a:t>25</a:t>
            </a:fld>
          </a:p>
        </p:txBody>
      </p:sp>
    </p:spTree>
  </p:cSld>
  <p:transition spd="med">
    <p:zoom dir="in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057400" y="3568680"/>
            <a:ext cx="380880" cy="685800"/>
          </a:xfrm>
          <a:prstGeom prst="downArrow">
            <a:avLst>
              <a:gd name="adj1" fmla="val 50000"/>
              <a:gd name="adj2" fmla="val 45014"/>
            </a:avLst>
          </a:prstGeom>
          <a:solidFill>
            <a:srgbClr val="ff99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4330800"/>
            <a:ext cx="2514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ANALISIS ESTADISTIC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2000" y="4297320"/>
            <a:ext cx="46483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nferencial (Métodos estadístico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44067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05320" y="4863960"/>
            <a:ext cx="1066680" cy="241560"/>
          </a:xfrm>
          <a:prstGeom prst="rightArrow">
            <a:avLst>
              <a:gd name="adj1" fmla="val 50000"/>
              <a:gd name="adj2" fmla="val 110395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  </a:t>
            </a: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El Estudio Estadístico: Se descomponen en 2 fas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DC55-03A0-4D56-81EB-3D297B6EC660}" type="slidenum">
              <a:t>26</a:t>
            </a:fld>
          </a:p>
        </p:txBody>
      </p:sp>
    </p:spTree>
  </p:cSld>
  <p:transition spd="med">
    <p:split dir="in" orient="vert"/>
  </p:transition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0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500"/>
                            </p:stCondLst>
                            <p:childTnLst>
                              <p:par>
                                <p:cTn id="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1000"/>
                            </p:stCondLst>
                            <p:childTnLst>
                              <p:par>
                                <p:cTn id="6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fill="hold">
                            <p:stCondLst>
                              <p:cond delay="1500"/>
                            </p:stCondLst>
                            <p:childTnLst>
                              <p:par>
                                <p:cTn id="60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500"/>
                            </p:stCondLst>
                            <p:childTnLst>
                              <p:par>
                                <p:cTn id="61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2000"/>
                            </p:stCondLst>
                            <p:childTnLst>
                              <p:par>
                                <p:cTn id="6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523880" y="1522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cc"/>
                </a:solidFill>
                <a:latin typeface="Times New Roman"/>
              </a:rPr>
              <a:t>TRATAMIENTO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380880" y="1143000"/>
            <a:ext cx="8610840" cy="5562720"/>
            <a:chOff x="380880" y="1143000"/>
            <a:chExt cx="8610840" cy="5562720"/>
          </a:xfrm>
        </p:grpSpPr>
        <p:sp>
          <p:nvSpPr>
            <p:cNvPr id="230" name=""/>
            <p:cNvSpPr/>
            <p:nvPr/>
          </p:nvSpPr>
          <p:spPr>
            <a:xfrm>
              <a:off x="380880" y="1143000"/>
              <a:ext cx="8610840" cy="5562720"/>
            </a:xfrm>
            <a:prstGeom prst="cube">
              <a:avLst>
                <a:gd name="adj" fmla="val 8925"/>
              </a:avLst>
            </a:prstGeom>
            <a:solidFill>
              <a:srgbClr val="ffcc66"/>
            </a:solidFill>
            <a:ln w="93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80880" y="1143000"/>
              <a:ext cx="8610840" cy="492120"/>
            </a:xfrm>
            <a:prstGeom prst="parallelogram">
              <a:avLst>
                <a:gd name="adj" fmla="val -84044"/>
              </a:avLst>
            </a:prstGeom>
            <a:gradFill rotWithShape="0">
              <a:gsLst>
                <a:gs pos="0">
                  <a:srgbClr val="5f5f5f"/>
                </a:gs>
                <a:gs pos="100000">
                  <a:srgbClr val="bebebe"/>
                </a:gs>
              </a:gsLst>
              <a:lin ang="8100000"/>
            </a:gradFill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590920" y="5335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stadística - Herramienta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5680" y="1600200"/>
            <a:ext cx="0" cy="510552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66680" y="2362320"/>
            <a:ext cx="266724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Descriptiv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029200" y="2293920"/>
            <a:ext cx="266688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Estadística 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5f5f5f"/>
                </a:solidFill>
                <a:latin typeface="Times New Roman"/>
              </a:rPr>
              <a:t>Inferencial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38080" y="4191120"/>
            <a:ext cx="304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RESUMI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19112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f5f5f"/>
                </a:solidFill>
                <a:latin typeface="Times New Roman"/>
              </a:rPr>
              <a:t>GENERALIZAR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495680" y="59436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05520" y="2743200"/>
            <a:ext cx="266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Estimación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4952880"/>
            <a:ext cx="266688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115cd7"/>
                </a:solidFill>
                <a:latin typeface="Times New Roman"/>
              </a:rPr>
              <a:t>Test de Hipótesis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80880" y="327672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80880" y="5029200"/>
            <a:ext cx="411480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8280" y="1600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020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981080"/>
            <a:ext cx="304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8080" y="556272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335268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495680" y="243828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495680" y="327672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76920" y="18892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24280" y="2438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876920" y="43876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1 Dimens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800600" y="524196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800600" y="60040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1980720" y="3581280"/>
            <a:ext cx="838080" cy="53316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495680" y="5029200"/>
            <a:ext cx="403884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743200" y="34290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-152280" y="350532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14600" y="182880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a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95280" y="35053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5029200"/>
            <a:ext cx="0" cy="167652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743200" y="510552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nt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152280" y="5181480"/>
            <a:ext cx="2133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Cuali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295280" y="5181480"/>
            <a:ext cx="21337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cc00"/>
                </a:solidFill>
                <a:latin typeface="Times New Roman"/>
              </a:rPr>
              <a:t>Mix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rot="5400000">
            <a:off x="5943600" y="35812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754617"/>
              </a:gs>
              <a:gs pos="50000">
                <a:srgbClr val="ff9933"/>
              </a:gs>
              <a:gs pos="100000">
                <a:srgbClr val="754617"/>
              </a:gs>
            </a:gsLst>
            <a:lin ang="54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657600"/>
            <a:ext cx="32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cc00cc"/>
                </a:solidFill>
                <a:latin typeface="Times New Roman"/>
              </a:rPr>
              <a:t>2 Dimension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24280" y="3505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cc"/>
                </a:solidFill>
                <a:latin typeface="Times New Roman"/>
              </a:rPr>
              <a:t>P Dimen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495680" y="4114800"/>
            <a:ext cx="4038840" cy="0"/>
          </a:xfrm>
          <a:prstGeom prst="line">
            <a:avLst/>
          </a:prstGeom>
          <a:ln w="7632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0ABA-9E12-4D51-BBAE-DFC55AF7218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fill="hold">
                            <p:stCondLst>
                              <p:cond delay="1000"/>
                            </p:stCondLst>
                            <p:childTnLst>
                              <p:par>
                                <p:cTn id="7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500"/>
                            </p:stCondLst>
                            <p:childTnLst>
                              <p:par>
                                <p:cTn id="7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1000"/>
                            </p:stCondLst>
                            <p:childTnLst>
                              <p:par>
                                <p:cTn id="7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1500"/>
                            </p:stCondLst>
                            <p:childTnLst>
                              <p:par>
                                <p:cTn id="7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000"/>
                            </p:stCondLst>
                            <p:childTnLst>
                              <p:par>
                                <p:cTn id="7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500"/>
                            </p:stCondLst>
                            <p:childTnLst>
                              <p:par>
                                <p:cTn id="7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000"/>
                            </p:stCondLst>
                            <p:childTnLst>
                              <p:par>
                                <p:cTn id="8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500"/>
                            </p:stCondLst>
                            <p:childTnLst>
                              <p:par>
                                <p:cTn id="8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500"/>
                            </p:stCondLst>
                            <p:childTnLst>
                              <p:par>
                                <p:cTn id="8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000"/>
                            </p:stCondLst>
                            <p:childTnLst>
                              <p:par>
                                <p:cTn id="8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fill="hold">
                            <p:stCondLst>
                              <p:cond delay="1500"/>
                            </p:stCondLst>
                            <p:childTnLst>
                              <p:par>
                                <p:cTn id="85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2000"/>
                            </p:stCondLst>
                            <p:childTnLst>
                              <p:par>
                                <p:cTn id="8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272" name=""/>
            <p:cNvGrpSpPr/>
            <p:nvPr/>
          </p:nvGrpSpPr>
          <p:grpSpPr>
            <a:xfrm>
              <a:off x="843840" y="1819080"/>
              <a:ext cx="7835400" cy="4651920"/>
              <a:chOff x="843840" y="1819080"/>
              <a:chExt cx="7835400" cy="4651920"/>
            </a:xfrm>
          </p:grpSpPr>
          <p:grpSp>
            <p:nvGrpSpPr>
              <p:cNvPr id="273" name=""/>
              <p:cNvGrpSpPr/>
              <p:nvPr/>
            </p:nvGrpSpPr>
            <p:grpSpPr>
              <a:xfrm>
                <a:off x="843840" y="1819080"/>
                <a:ext cx="1958400" cy="676080"/>
                <a:chOff x="843840" y="1819080"/>
                <a:chExt cx="1958400" cy="6760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901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 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843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802600" y="1819080"/>
                <a:ext cx="1958400" cy="676080"/>
                <a:chOff x="2802600" y="1819080"/>
                <a:chExt cx="1958400" cy="6760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85984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80260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4761720" y="1819080"/>
                <a:ext cx="1958400" cy="676080"/>
                <a:chOff x="4761720" y="1819080"/>
                <a:chExt cx="1958400" cy="6760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81896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76172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720840" y="1819080"/>
                <a:ext cx="1958400" cy="676080"/>
                <a:chOff x="6720840" y="1819080"/>
                <a:chExt cx="1958400" cy="6760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778080" y="1819080"/>
                  <a:ext cx="184356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Mult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720840" y="1819080"/>
                  <a:ext cx="195840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843840" y="2495520"/>
                <a:ext cx="1958400" cy="1272960"/>
                <a:chOff x="843840" y="2495520"/>
                <a:chExt cx="1958400" cy="12729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901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nt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843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802600" y="2495520"/>
                <a:ext cx="1958400" cy="1272960"/>
                <a:chOff x="2802600" y="2495520"/>
                <a:chExt cx="1958400" cy="12729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85984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80260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4761720" y="2495520"/>
                <a:ext cx="1958400" cy="1272960"/>
                <a:chOff x="4761720" y="2495520"/>
                <a:chExt cx="1958400" cy="127296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481896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6172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6720840" y="2495520"/>
                <a:ext cx="1958400" cy="1272960"/>
                <a:chOff x="6720840" y="2495520"/>
                <a:chExt cx="1958400" cy="127296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6778080" y="2495520"/>
                  <a:ext cx="1843560" cy="1272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iagrama de individuos 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720840" y="2495520"/>
                  <a:ext cx="1958400" cy="1272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843840" y="3768840"/>
                <a:ext cx="1958400" cy="1061280"/>
                <a:chOff x="843840" y="3768840"/>
                <a:chExt cx="1958400" cy="1061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901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cualitativ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43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802600" y="3768840"/>
                <a:ext cx="1958400" cy="1061280"/>
                <a:chOff x="2802600" y="3768840"/>
                <a:chExt cx="1958400" cy="1061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85984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80260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4761720" y="3768840"/>
                <a:ext cx="1958400" cy="1061280"/>
                <a:chOff x="4761720" y="3768840"/>
                <a:chExt cx="1958400" cy="1061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481896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6172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6720840" y="3768840"/>
                <a:ext cx="1958400" cy="1061280"/>
                <a:chOff x="6720840" y="3768840"/>
                <a:chExt cx="1958400" cy="1061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6778080" y="3768840"/>
                  <a:ext cx="1843560" cy="106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Tablas de frecuencia unidimensio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720840" y="3768840"/>
                  <a:ext cx="1958400" cy="1061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843840" y="4830480"/>
                <a:ext cx="1958400" cy="1640520"/>
                <a:chOff x="843840" y="4830480"/>
                <a:chExt cx="1958400" cy="16405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901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Datos mixto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843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802600" y="4830480"/>
                <a:ext cx="1958400" cy="1640520"/>
                <a:chOff x="2802600" y="4830480"/>
                <a:chExt cx="1958400" cy="16405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85984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-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80260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4761720" y="4830480"/>
                <a:ext cx="1958400" cy="1640520"/>
                <a:chOff x="4761720" y="4830480"/>
                <a:chExt cx="1958400" cy="16405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81896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Box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 : Cuantitativa-nom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Scatter Plot</a:t>
                  </a: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: Cuantitativa - Ordinal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6172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720840" y="4830480"/>
                <a:ext cx="1958400" cy="1640520"/>
                <a:chOff x="6720840" y="4830480"/>
                <a:chExt cx="1958400" cy="16405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778080" y="4830480"/>
                  <a:ext cx="1843560" cy="1640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CP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1800" spc="-1" strike="noStrike">
                      <a:solidFill>
                        <a:srgbClr val="ffffcc"/>
                      </a:solidFill>
                      <a:latin typeface="Comic Sans MS"/>
                    </a:rPr>
                    <a:t>AFC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720840" y="4830480"/>
                  <a:ext cx="1958400" cy="1640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838080" y="1814400"/>
              <a:ext cx="7848360" cy="4662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682200" y="1152360"/>
            <a:ext cx="49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exploratorio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C88B-A294-4900-ABAE-3D2AF4EEAFAE}" type="slidenum">
              <a:t>28</a:t>
            </a:fld>
          </a:p>
        </p:txBody>
      </p:sp>
    </p:spTree>
  </p:cSld>
  <p:transition>
    <p:random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94080" y="1152360"/>
            <a:ext cx="47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descriptivo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838080" y="1814400"/>
            <a:ext cx="7848360" cy="4662360"/>
            <a:chOff x="838080" y="1814400"/>
            <a:chExt cx="7848360" cy="4662360"/>
          </a:xfrm>
        </p:grpSpPr>
        <p:grpSp>
          <p:nvGrpSpPr>
            <p:cNvPr id="327" name=""/>
            <p:cNvGrpSpPr/>
            <p:nvPr/>
          </p:nvGrpSpPr>
          <p:grpSpPr>
            <a:xfrm>
              <a:off x="838080" y="1814400"/>
              <a:ext cx="7848360" cy="4662360"/>
              <a:chOff x="838080" y="1814400"/>
              <a:chExt cx="7848360" cy="4662360"/>
            </a:xfrm>
          </p:grpSpPr>
          <p:grpSp>
            <p:nvGrpSpPr>
              <p:cNvPr id="328" name=""/>
              <p:cNvGrpSpPr/>
              <p:nvPr/>
            </p:nvGrpSpPr>
            <p:grpSpPr>
              <a:xfrm>
                <a:off x="843840" y="1819080"/>
                <a:ext cx="7835400" cy="4651920"/>
                <a:chOff x="843840" y="1819080"/>
                <a:chExt cx="7835400" cy="4651920"/>
              </a:xfrm>
            </p:grpSpPr>
            <p:grpSp>
              <p:nvGrpSpPr>
                <p:cNvPr id="329" name=""/>
                <p:cNvGrpSpPr/>
                <p:nvPr/>
              </p:nvGrpSpPr>
              <p:grpSpPr>
                <a:xfrm>
                  <a:off x="843840" y="1819080"/>
                  <a:ext cx="1958400" cy="676080"/>
                  <a:chOff x="843840" y="1819080"/>
                  <a:chExt cx="1958400" cy="676080"/>
                </a:xfrm>
              </p:grpSpPr>
              <p:sp>
                <p:nvSpPr>
                  <p:cNvPr id="330" name=""/>
                  <p:cNvSpPr/>
                  <p:nvPr/>
                </p:nvSpPr>
                <p:spPr>
                  <a:xfrm>
                    <a:off x="901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 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>
                    <a:off x="843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2" name=""/>
                <p:cNvGrpSpPr/>
                <p:nvPr/>
              </p:nvGrpSpPr>
              <p:grpSpPr>
                <a:xfrm>
                  <a:off x="2802600" y="1819080"/>
                  <a:ext cx="1958400" cy="676080"/>
                  <a:chOff x="2802600" y="1819080"/>
                  <a:chExt cx="1958400" cy="676080"/>
                </a:xfrm>
              </p:grpSpPr>
              <p:sp>
                <p:nvSpPr>
                  <p:cNvPr id="333" name=""/>
                  <p:cNvSpPr/>
                  <p:nvPr/>
                </p:nvSpPr>
                <p:spPr>
                  <a:xfrm>
                    <a:off x="285984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Un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280260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5" name=""/>
                <p:cNvGrpSpPr/>
                <p:nvPr/>
              </p:nvGrpSpPr>
              <p:grpSpPr>
                <a:xfrm>
                  <a:off x="4761720" y="1819080"/>
                  <a:ext cx="1958400" cy="676080"/>
                  <a:chOff x="4761720" y="1819080"/>
                  <a:chExt cx="1958400" cy="67608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481896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B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476172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20840" y="1819080"/>
                  <a:ext cx="1958400" cy="676080"/>
                  <a:chOff x="6720840" y="1819080"/>
                  <a:chExt cx="1958400" cy="67608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78080" y="1819080"/>
                    <a:ext cx="1843560" cy="676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Multidimensional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20840" y="1819080"/>
                    <a:ext cx="1958400" cy="6760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1" name=""/>
                <p:cNvGrpSpPr/>
                <p:nvPr/>
              </p:nvGrpSpPr>
              <p:grpSpPr>
                <a:xfrm>
                  <a:off x="843840" y="2495520"/>
                  <a:ext cx="1958400" cy="1272960"/>
                  <a:chOff x="843840" y="2495520"/>
                  <a:chExt cx="1958400" cy="127296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901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nt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843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4" name=""/>
                <p:cNvGrpSpPr/>
                <p:nvPr/>
              </p:nvGrpSpPr>
              <p:grpSpPr>
                <a:xfrm>
                  <a:off x="2802600" y="2495520"/>
                  <a:ext cx="1958400" cy="1272960"/>
                  <a:chOff x="2802600" y="2495520"/>
                  <a:chExt cx="1958400" cy="1272960"/>
                </a:xfrm>
              </p:grpSpPr>
              <p:sp>
                <p:nvSpPr>
                  <p:cNvPr id="345" name=""/>
                  <p:cNvSpPr/>
                  <p:nvPr/>
                </p:nvSpPr>
                <p:spPr>
                  <a:xfrm>
                    <a:off x="285984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Parametros de posición, dispersión, form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280260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47" name=""/>
                <p:cNvGrpSpPr/>
                <p:nvPr/>
              </p:nvGrpSpPr>
              <p:grpSpPr>
                <a:xfrm>
                  <a:off x="4761720" y="2495520"/>
                  <a:ext cx="1958400" cy="1272960"/>
                  <a:chOff x="4761720" y="2495520"/>
                  <a:chExt cx="1958400" cy="1272960"/>
                </a:xfrm>
              </p:grpSpPr>
              <p:sp>
                <p:nvSpPr>
                  <p:cNvPr id="348" name=""/>
                  <p:cNvSpPr/>
                  <p:nvPr/>
                </p:nvSpPr>
                <p:spPr>
                  <a:xfrm>
                    <a:off x="481896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, 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varianz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Correlación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Regresión </a:t>
                    </a:r>
                    <a:r>
                      <a:rPr b="0" i="1" lang="en-U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  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476172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0" name=""/>
                <p:cNvGrpSpPr/>
                <p:nvPr/>
              </p:nvGrpSpPr>
              <p:grpSpPr>
                <a:xfrm>
                  <a:off x="6720840" y="2495520"/>
                  <a:ext cx="1958400" cy="1272960"/>
                  <a:chOff x="6720840" y="2495520"/>
                  <a:chExt cx="1958400" cy="1272960"/>
                </a:xfrm>
              </p:grpSpPr>
              <p:sp>
                <p:nvSpPr>
                  <p:cNvPr id="351" name=""/>
                  <p:cNvSpPr/>
                  <p:nvPr/>
                </p:nvSpPr>
                <p:spPr>
                  <a:xfrm>
                    <a:off x="6778080" y="2495520"/>
                    <a:ext cx="1843560" cy="1272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CP</a:t>
                    </a: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, CLUSTER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>
                    <a:off x="6720840" y="2495520"/>
                    <a:ext cx="1958400" cy="12729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3" name=""/>
                <p:cNvGrpSpPr/>
                <p:nvPr/>
              </p:nvGrpSpPr>
              <p:grpSpPr>
                <a:xfrm>
                  <a:off x="843840" y="3768840"/>
                  <a:ext cx="1958400" cy="1061280"/>
                  <a:chOff x="843840" y="3768840"/>
                  <a:chExt cx="1958400" cy="1061280"/>
                </a:xfrm>
              </p:grpSpPr>
              <p:sp>
                <p:nvSpPr>
                  <p:cNvPr id="354" name=""/>
                  <p:cNvSpPr/>
                  <p:nvPr/>
                </p:nvSpPr>
                <p:spPr>
                  <a:xfrm>
                    <a:off x="901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Datos cualitativos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>
                    <a:off x="843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6" name=""/>
                <p:cNvGrpSpPr/>
                <p:nvPr/>
              </p:nvGrpSpPr>
              <p:grpSpPr>
                <a:xfrm>
                  <a:off x="2802600" y="3768840"/>
                  <a:ext cx="1958400" cy="1061280"/>
                  <a:chOff x="2802600" y="3768840"/>
                  <a:chExt cx="1958400" cy="1061280"/>
                </a:xfrm>
              </p:grpSpPr>
              <p:sp>
                <p:nvSpPr>
                  <p:cNvPr id="357" name=""/>
                  <p:cNvSpPr/>
                  <p:nvPr/>
                </p:nvSpPr>
                <p:spPr>
                  <a:xfrm>
                    <a:off x="285984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8" name=""/>
                  <p:cNvSpPr/>
                  <p:nvPr/>
                </p:nvSpPr>
                <p:spPr>
                  <a:xfrm>
                    <a:off x="280260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59" name=""/>
                <p:cNvGrpSpPr/>
                <p:nvPr/>
              </p:nvGrpSpPr>
              <p:grpSpPr>
                <a:xfrm>
                  <a:off x="4761720" y="3768840"/>
                  <a:ext cx="1958400" cy="1061280"/>
                  <a:chOff x="4761720" y="3768840"/>
                  <a:chExt cx="1958400" cy="1061280"/>
                </a:xfrm>
              </p:grpSpPr>
              <p:sp>
                <p:nvSpPr>
                  <p:cNvPr id="360" name=""/>
                  <p:cNvSpPr/>
                  <p:nvPr/>
                </p:nvSpPr>
                <p:spPr>
                  <a:xfrm>
                    <a:off x="481896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Gráficas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600" spc="-1" strike="noStrike">
                        <a:solidFill>
                          <a:srgbClr val="ffffcc"/>
                        </a:solidFill>
                        <a:latin typeface="Comic Sans MS"/>
                      </a:rPr>
                      <a:t>Tablas de frecuencia</a:t>
                    </a:r>
                    <a:endParaRPr b="0" lang="en-US" sz="16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1" name=""/>
                  <p:cNvSpPr/>
                  <p:nvPr/>
                </p:nvSpPr>
                <p:spPr>
                  <a:xfrm>
                    <a:off x="476172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2" name=""/>
                <p:cNvGrpSpPr/>
                <p:nvPr/>
              </p:nvGrpSpPr>
              <p:grpSpPr>
                <a:xfrm>
                  <a:off x="6720840" y="3768840"/>
                  <a:ext cx="1958400" cy="1061280"/>
                  <a:chOff x="6720840" y="3768840"/>
                  <a:chExt cx="1958400" cy="1061280"/>
                </a:xfrm>
              </p:grpSpPr>
              <p:sp>
                <p:nvSpPr>
                  <p:cNvPr id="363" name=""/>
                  <p:cNvSpPr/>
                  <p:nvPr/>
                </p:nvSpPr>
                <p:spPr>
                  <a:xfrm>
                    <a:off x="6778080" y="3768840"/>
                    <a:ext cx="1843560" cy="1061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BO" sz="1800" spc="-1" strike="noStrike">
                        <a:solidFill>
                          <a:srgbClr val="ffffcc"/>
                        </a:solidFill>
                        <a:latin typeface="Comic Sans MS"/>
                      </a:rPr>
                      <a:t>AFC</a:t>
                    </a: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4" name=""/>
                  <p:cNvSpPr/>
                  <p:nvPr/>
                </p:nvSpPr>
                <p:spPr>
                  <a:xfrm>
                    <a:off x="6720840" y="3768840"/>
                    <a:ext cx="1958400" cy="1061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5" name=""/>
                <p:cNvGrpSpPr/>
                <p:nvPr/>
              </p:nvGrpSpPr>
              <p:grpSpPr>
                <a:xfrm>
                  <a:off x="843840" y="4830480"/>
                  <a:ext cx="1958400" cy="1640520"/>
                  <a:chOff x="843840" y="4830480"/>
                  <a:chExt cx="1958400" cy="1640520"/>
                </a:xfrm>
              </p:grpSpPr>
              <p:sp>
                <p:nvSpPr>
                  <p:cNvPr id="366" name=""/>
                  <p:cNvSpPr/>
                  <p:nvPr/>
                </p:nvSpPr>
                <p:spPr>
                  <a:xfrm>
                    <a:off x="901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7" name=""/>
                  <p:cNvSpPr/>
                  <p:nvPr/>
                </p:nvSpPr>
                <p:spPr>
                  <a:xfrm>
                    <a:off x="843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8" name=""/>
                <p:cNvGrpSpPr/>
                <p:nvPr/>
              </p:nvGrpSpPr>
              <p:grpSpPr>
                <a:xfrm>
                  <a:off x="2802600" y="4830480"/>
                  <a:ext cx="1958400" cy="1640520"/>
                  <a:chOff x="2802600" y="4830480"/>
                  <a:chExt cx="1958400" cy="1640520"/>
                </a:xfrm>
              </p:grpSpPr>
              <p:sp>
                <p:nvSpPr>
                  <p:cNvPr id="369" name=""/>
                  <p:cNvSpPr/>
                  <p:nvPr/>
                </p:nvSpPr>
                <p:spPr>
                  <a:xfrm>
                    <a:off x="285984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0" name=""/>
                  <p:cNvSpPr/>
                  <p:nvPr/>
                </p:nvSpPr>
                <p:spPr>
                  <a:xfrm>
                    <a:off x="280260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1" name=""/>
                <p:cNvGrpSpPr/>
                <p:nvPr/>
              </p:nvGrpSpPr>
              <p:grpSpPr>
                <a:xfrm>
                  <a:off x="4761720" y="4830480"/>
                  <a:ext cx="1958400" cy="1640520"/>
                  <a:chOff x="4761720" y="4830480"/>
                  <a:chExt cx="1958400" cy="1640520"/>
                </a:xfrm>
              </p:grpSpPr>
              <p:sp>
                <p:nvSpPr>
                  <p:cNvPr id="372" name=""/>
                  <p:cNvSpPr/>
                  <p:nvPr/>
                </p:nvSpPr>
                <p:spPr>
                  <a:xfrm>
                    <a:off x="481896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3" name=""/>
                  <p:cNvSpPr/>
                  <p:nvPr/>
                </p:nvSpPr>
                <p:spPr>
                  <a:xfrm>
                    <a:off x="476172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74" name=""/>
                <p:cNvGrpSpPr/>
                <p:nvPr/>
              </p:nvGrpSpPr>
              <p:grpSpPr>
                <a:xfrm>
                  <a:off x="6720840" y="4830480"/>
                  <a:ext cx="1958400" cy="1640520"/>
                  <a:chOff x="6720840" y="4830480"/>
                  <a:chExt cx="1958400" cy="1640520"/>
                </a:xfrm>
              </p:grpSpPr>
              <p:sp>
                <p:nvSpPr>
                  <p:cNvPr id="375" name=""/>
                  <p:cNvSpPr/>
                  <p:nvPr/>
                </p:nvSpPr>
                <p:spPr>
                  <a:xfrm>
                    <a:off x="6778080" y="4830480"/>
                    <a:ext cx="1843560" cy="1640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>
                    <a:off x="6720840" y="4830480"/>
                    <a:ext cx="1958400" cy="16405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77" name=""/>
              <p:cNvSpPr/>
              <p:nvPr/>
            </p:nvSpPr>
            <p:spPr>
              <a:xfrm>
                <a:off x="838080" y="1814400"/>
                <a:ext cx="7848360" cy="4662360"/>
              </a:xfrm>
              <a:prstGeom prst="rect">
                <a:avLst/>
              </a:prstGeom>
              <a:noFill/>
              <a:ln w="111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2971800" y="3962520"/>
              <a:ext cx="16002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Gráficas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Tablas de frecuencia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9789-E8E4-4DBD-BE2B-8592C6213249}" type="slidenum">
              <a:t>29</a:t>
            </a:fld>
          </a:p>
        </p:txBody>
      </p:sp>
    </p:spTree>
  </p:cSld>
  <p:transition>
    <p:random/>
  </p:transition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1276200"/>
            <a:ext cx="742176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d2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INTRODUCCION - OBJETIV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Presentar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PROBLEMAS EN INVESTIG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las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BASES METODOLÓGICAS PARA EL DISEÑO DE LA INVESTIGACIÓN – MATRIZ MAPIC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omprender el rol de la  </a:t>
            </a:r>
            <a:r>
              <a:rPr b="0" lang="es-ES_tradnl" sz="2000" spc="-1" strike="noStrike">
                <a:solidFill>
                  <a:srgbClr val="d20000"/>
                </a:solidFill>
                <a:latin typeface="Comic Sans MS"/>
              </a:rPr>
              <a:t>ESTADISTICA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en la investigación científica (análisis e interpretación de datos)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3613-EED3-45C2-9292-E8412F7A53A1}" type="slidenum">
              <a:t>3</a:t>
            </a:fld>
          </a:p>
        </p:txBody>
      </p:sp>
    </p:spTree>
  </p:cSld>
  <p:transition spd="med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697320" y="1152360"/>
            <a:ext cx="465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nálisis </a:t>
            </a:r>
            <a:r>
              <a:rPr b="0" lang="es-BO" sz="2400" spc="-1" strike="noStrike">
                <a:solidFill>
                  <a:srgbClr val="ffffcc"/>
                </a:solidFill>
                <a:latin typeface="Comic Sans MS"/>
              </a:rPr>
              <a:t>inferencial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de los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70400" y="609480"/>
            <a:ext cx="466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Comic Sans MS"/>
              </a:rPr>
              <a:t>7.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ANÁLISIS DE LOS DAT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838080" y="1814400"/>
            <a:ext cx="7848360" cy="5463000"/>
            <a:chOff x="838080" y="1814400"/>
            <a:chExt cx="7848360" cy="5463000"/>
          </a:xfrm>
        </p:grpSpPr>
        <p:sp>
          <p:nvSpPr>
            <p:cNvPr id="382" name=""/>
            <p:cNvSpPr/>
            <p:nvPr/>
          </p:nvSpPr>
          <p:spPr>
            <a:xfrm>
              <a:off x="2971800" y="5087880"/>
              <a:ext cx="1676520" cy="218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Run test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Wilcox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Mann-Whitney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cc"/>
                  </a:solidFill>
                  <a:latin typeface="Comic Sans MS"/>
                </a:rPr>
                <a:t>Kruskall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383" name=""/>
            <p:cNvGrpSpPr/>
            <p:nvPr/>
          </p:nvGrpSpPr>
          <p:grpSpPr>
            <a:xfrm>
              <a:off x="838080" y="1814400"/>
              <a:ext cx="7848360" cy="4688640"/>
              <a:chOff x="838080" y="1814400"/>
              <a:chExt cx="7848360" cy="4688640"/>
            </a:xfrm>
          </p:grpSpPr>
          <p:grpSp>
            <p:nvGrpSpPr>
              <p:cNvPr id="384" name=""/>
              <p:cNvGrpSpPr/>
              <p:nvPr/>
            </p:nvGrpSpPr>
            <p:grpSpPr>
              <a:xfrm>
                <a:off x="838080" y="1814400"/>
                <a:ext cx="7848360" cy="4662360"/>
                <a:chOff x="838080" y="1814400"/>
                <a:chExt cx="7848360" cy="4662360"/>
              </a:xfrm>
            </p:grpSpPr>
            <p:grpSp>
              <p:nvGrpSpPr>
                <p:cNvPr id="385" name=""/>
                <p:cNvGrpSpPr/>
                <p:nvPr/>
              </p:nvGrpSpPr>
              <p:grpSpPr>
                <a:xfrm>
                  <a:off x="843840" y="1819080"/>
                  <a:ext cx="7835400" cy="4651920"/>
                  <a:chOff x="843840" y="1819080"/>
                  <a:chExt cx="7835400" cy="4651920"/>
                </a:xfrm>
              </p:grpSpPr>
              <p:grpSp>
                <p:nvGrpSpPr>
                  <p:cNvPr id="386" name=""/>
                  <p:cNvGrpSpPr/>
                  <p:nvPr/>
                </p:nvGrpSpPr>
                <p:grpSpPr>
                  <a:xfrm>
                    <a:off x="843840" y="1819080"/>
                    <a:ext cx="1958400" cy="676080"/>
                    <a:chOff x="843840" y="1819080"/>
                    <a:chExt cx="1958400" cy="676080"/>
                  </a:xfrm>
                </p:grpSpPr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901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843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89" name=""/>
                  <p:cNvGrpSpPr/>
                  <p:nvPr/>
                </p:nvGrpSpPr>
                <p:grpSpPr>
                  <a:xfrm>
                    <a:off x="2802600" y="1819080"/>
                    <a:ext cx="1958400" cy="676080"/>
                    <a:chOff x="2802600" y="1819080"/>
                    <a:chExt cx="1958400" cy="676080"/>
                  </a:xfrm>
                </p:grpSpPr>
                <p:sp>
                  <p:nvSpPr>
                    <p:cNvPr id="390" name=""/>
                    <p:cNvSpPr/>
                    <p:nvPr/>
                  </p:nvSpPr>
                  <p:spPr>
                    <a:xfrm>
                      <a:off x="285984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Un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1" name=""/>
                    <p:cNvSpPr/>
                    <p:nvPr/>
                  </p:nvSpPr>
                  <p:spPr>
                    <a:xfrm>
                      <a:off x="280260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2" name=""/>
                  <p:cNvGrpSpPr/>
                  <p:nvPr/>
                </p:nvGrpSpPr>
                <p:grpSpPr>
                  <a:xfrm>
                    <a:off x="4761720" y="1819080"/>
                    <a:ext cx="1958400" cy="676080"/>
                    <a:chOff x="4761720" y="1819080"/>
                    <a:chExt cx="1958400" cy="676080"/>
                  </a:xfrm>
                </p:grpSpPr>
                <p:sp>
                  <p:nvSpPr>
                    <p:cNvPr id="393" name=""/>
                    <p:cNvSpPr/>
                    <p:nvPr/>
                  </p:nvSpPr>
                  <p:spPr>
                    <a:xfrm>
                      <a:off x="481896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B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4" name=""/>
                    <p:cNvSpPr/>
                    <p:nvPr/>
                  </p:nvSpPr>
                  <p:spPr>
                    <a:xfrm>
                      <a:off x="476172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5" name=""/>
                  <p:cNvGrpSpPr/>
                  <p:nvPr/>
                </p:nvGrpSpPr>
                <p:grpSpPr>
                  <a:xfrm>
                    <a:off x="6720840" y="1819080"/>
                    <a:ext cx="1958400" cy="676080"/>
                    <a:chOff x="6720840" y="1819080"/>
                    <a:chExt cx="1958400" cy="676080"/>
                  </a:xfrm>
                </p:grpSpPr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6778080" y="1819080"/>
                      <a:ext cx="1843560" cy="676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ultidimensional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6720840" y="1819080"/>
                      <a:ext cx="1958400" cy="6760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8" name=""/>
                  <p:cNvGrpSpPr/>
                  <p:nvPr/>
                </p:nvGrpSpPr>
                <p:grpSpPr>
                  <a:xfrm>
                    <a:off x="843840" y="2495520"/>
                    <a:ext cx="1958400" cy="1272960"/>
                    <a:chOff x="843840" y="2495520"/>
                    <a:chExt cx="1958400" cy="1272960"/>
                  </a:xfrm>
                </p:grpSpPr>
                <p:sp>
                  <p:nvSpPr>
                    <p:cNvPr id="399" name=""/>
                    <p:cNvSpPr/>
                    <p:nvPr/>
                  </p:nvSpPr>
                  <p:spPr>
                    <a:xfrm>
                      <a:off x="901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Estim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843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1" name=""/>
                  <p:cNvGrpSpPr/>
                  <p:nvPr/>
                </p:nvGrpSpPr>
                <p:grpSpPr>
                  <a:xfrm>
                    <a:off x="2802600" y="2495520"/>
                    <a:ext cx="1958400" cy="1272960"/>
                    <a:chOff x="2802600" y="2495520"/>
                    <a:chExt cx="1958400" cy="1272960"/>
                  </a:xfrm>
                </p:grpSpPr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285984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medi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Varianza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Proporcione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280260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4" name=""/>
                  <p:cNvGrpSpPr/>
                  <p:nvPr/>
                </p:nvGrpSpPr>
                <p:grpSpPr>
                  <a:xfrm>
                    <a:off x="4761720" y="2495520"/>
                    <a:ext cx="1958400" cy="1272960"/>
                    <a:chOff x="4761720" y="2495520"/>
                    <a:chExt cx="1958400" cy="1272960"/>
                  </a:xfrm>
                </p:grpSpPr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481896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476172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07" name=""/>
                  <p:cNvGrpSpPr/>
                  <p:nvPr/>
                </p:nvGrpSpPr>
                <p:grpSpPr>
                  <a:xfrm>
                    <a:off x="6720840" y="2495520"/>
                    <a:ext cx="1958400" cy="1272960"/>
                    <a:chOff x="6720840" y="2495520"/>
                    <a:chExt cx="1958400" cy="1272960"/>
                  </a:xfrm>
                </p:grpSpPr>
                <p:sp>
                  <p:nvSpPr>
                    <p:cNvPr id="408" name=""/>
                    <p:cNvSpPr/>
                    <p:nvPr/>
                  </p:nvSpPr>
                  <p:spPr>
                    <a:xfrm>
                      <a:off x="6778080" y="2495520"/>
                      <a:ext cx="1843560" cy="1272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Regresión multiple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orrelación canónoca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9" name=""/>
                    <p:cNvSpPr/>
                    <p:nvPr/>
                  </p:nvSpPr>
                  <p:spPr>
                    <a:xfrm>
                      <a:off x="6720840" y="2495520"/>
                      <a:ext cx="1958400" cy="127296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0" name=""/>
                  <p:cNvGrpSpPr/>
                  <p:nvPr/>
                </p:nvGrpSpPr>
                <p:grpSpPr>
                  <a:xfrm>
                    <a:off x="843840" y="3768840"/>
                    <a:ext cx="1958400" cy="1061280"/>
                    <a:chOff x="843840" y="3768840"/>
                    <a:chExt cx="1958400" cy="1061280"/>
                  </a:xfrm>
                </p:grpSpPr>
                <p:sp>
                  <p:nvSpPr>
                    <p:cNvPr id="411" name=""/>
                    <p:cNvSpPr/>
                    <p:nvPr/>
                  </p:nvSpPr>
                  <p:spPr>
                    <a:xfrm>
                      <a:off x="901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hipotesi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2" name=""/>
                    <p:cNvSpPr/>
                    <p:nvPr/>
                  </p:nvSpPr>
                  <p:spPr>
                    <a:xfrm>
                      <a:off x="843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3" name=""/>
                  <p:cNvGrpSpPr/>
                  <p:nvPr/>
                </p:nvGrpSpPr>
                <p:grpSpPr>
                  <a:xfrm>
                    <a:off x="2802600" y="3768840"/>
                    <a:ext cx="1958400" cy="1061280"/>
                    <a:chOff x="2802600" y="3768840"/>
                    <a:chExt cx="1958400" cy="1061280"/>
                  </a:xfrm>
                </p:grpSpPr>
                <p:sp>
                  <p:nvSpPr>
                    <p:cNvPr id="414" name=""/>
                    <p:cNvSpPr/>
                    <p:nvPr/>
                  </p:nvSpPr>
                  <p:spPr>
                    <a:xfrm>
                      <a:off x="285984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5" name=""/>
                    <p:cNvSpPr/>
                    <p:nvPr/>
                  </p:nvSpPr>
                  <p:spPr>
                    <a:xfrm>
                      <a:off x="280260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6" name=""/>
                  <p:cNvGrpSpPr/>
                  <p:nvPr/>
                </p:nvGrpSpPr>
                <p:grpSpPr>
                  <a:xfrm>
                    <a:off x="4761720" y="3768840"/>
                    <a:ext cx="1958400" cy="1061280"/>
                    <a:chOff x="4761720" y="3768840"/>
                    <a:chExt cx="1958400" cy="1061280"/>
                  </a:xfrm>
                </p:grpSpPr>
                <p:sp>
                  <p:nvSpPr>
                    <p:cNvPr id="417" name=""/>
                    <p:cNvSpPr/>
                    <p:nvPr/>
                  </p:nvSpPr>
                  <p:spPr>
                    <a:xfrm>
                      <a:off x="481896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compar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BO" sz="16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Test de significación</a:t>
                      </a:r>
                      <a:endParaRPr b="0" lang="en-US" sz="16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"/>
                    <p:cNvSpPr/>
                    <p:nvPr/>
                  </p:nvSpPr>
                  <p:spPr>
                    <a:xfrm>
                      <a:off x="476172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19" name=""/>
                  <p:cNvGrpSpPr/>
                  <p:nvPr/>
                </p:nvGrpSpPr>
                <p:grpSpPr>
                  <a:xfrm>
                    <a:off x="6720840" y="3768840"/>
                    <a:ext cx="1958400" cy="1061280"/>
                    <a:chOff x="6720840" y="3768840"/>
                    <a:chExt cx="1958400" cy="1061280"/>
                  </a:xfrm>
                </p:grpSpPr>
                <p:sp>
                  <p:nvSpPr>
                    <p:cNvPr id="420" name=""/>
                    <p:cNvSpPr/>
                    <p:nvPr/>
                  </p:nvSpPr>
                  <p:spPr>
                    <a:xfrm>
                      <a:off x="6778080" y="3768840"/>
                      <a:ext cx="1843560" cy="1061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ANOVA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Discriminante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Canónico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1" name=""/>
                    <p:cNvSpPr/>
                    <p:nvPr/>
                  </p:nvSpPr>
                  <p:spPr>
                    <a:xfrm>
                      <a:off x="6720840" y="3768840"/>
                      <a:ext cx="1958400" cy="106128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2" name=""/>
                  <p:cNvGrpSpPr/>
                  <p:nvPr/>
                </p:nvGrpSpPr>
                <p:grpSpPr>
                  <a:xfrm>
                    <a:off x="843840" y="4830480"/>
                    <a:ext cx="1958400" cy="1640520"/>
                    <a:chOff x="843840" y="4830480"/>
                    <a:chExt cx="1958400" cy="1640520"/>
                  </a:xfrm>
                </p:grpSpPr>
                <p:sp>
                  <p:nvSpPr>
                    <p:cNvPr id="423" name=""/>
                    <p:cNvSpPr/>
                    <p:nvPr/>
                  </p:nvSpPr>
                  <p:spPr>
                    <a:xfrm>
                      <a:off x="901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BO" sz="1800" spc="-1" strike="noStrike">
                          <a:solidFill>
                            <a:srgbClr val="ffffcc"/>
                          </a:solidFill>
                          <a:latin typeface="Comic Sans MS"/>
                        </a:rPr>
                        <a:t>Métodos no parametricos</a:t>
                      </a: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4" name=""/>
                    <p:cNvSpPr/>
                    <p:nvPr/>
                  </p:nvSpPr>
                  <p:spPr>
                    <a:xfrm>
                      <a:off x="843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5" name=""/>
                  <p:cNvGrpSpPr/>
                  <p:nvPr/>
                </p:nvGrpSpPr>
                <p:grpSpPr>
                  <a:xfrm>
                    <a:off x="2802600" y="4830480"/>
                    <a:ext cx="1958400" cy="1640520"/>
                    <a:chOff x="2802600" y="4830480"/>
                    <a:chExt cx="1958400" cy="1640520"/>
                  </a:xfrm>
                </p:grpSpPr>
                <p:sp>
                  <p:nvSpPr>
                    <p:cNvPr id="426" name=""/>
                    <p:cNvSpPr/>
                    <p:nvPr/>
                  </p:nvSpPr>
                  <p:spPr>
                    <a:xfrm>
                      <a:off x="285984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27" name=""/>
                    <p:cNvSpPr/>
                    <p:nvPr/>
                  </p:nvSpPr>
                  <p:spPr>
                    <a:xfrm>
                      <a:off x="280260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28" name=""/>
                  <p:cNvGrpSpPr/>
                  <p:nvPr/>
                </p:nvGrpSpPr>
                <p:grpSpPr>
                  <a:xfrm>
                    <a:off x="4761720" y="4830480"/>
                    <a:ext cx="1958400" cy="1640520"/>
                    <a:chOff x="4761720" y="4830480"/>
                    <a:chExt cx="1958400" cy="1640520"/>
                  </a:xfrm>
                </p:grpSpPr>
                <p:sp>
                  <p:nvSpPr>
                    <p:cNvPr id="429" name=""/>
                    <p:cNvSpPr/>
                    <p:nvPr/>
                  </p:nvSpPr>
                  <p:spPr>
                    <a:xfrm>
                      <a:off x="481896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" name=""/>
                    <p:cNvSpPr/>
                    <p:nvPr/>
                  </p:nvSpPr>
                  <p:spPr>
                    <a:xfrm>
                      <a:off x="476172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" name=""/>
                  <p:cNvGrpSpPr/>
                  <p:nvPr/>
                </p:nvGrpSpPr>
                <p:grpSpPr>
                  <a:xfrm>
                    <a:off x="6720840" y="4830480"/>
                    <a:ext cx="1958400" cy="1640520"/>
                    <a:chOff x="6720840" y="4830480"/>
                    <a:chExt cx="1958400" cy="1640520"/>
                  </a:xfrm>
                </p:grpSpPr>
                <p:sp>
                  <p:nvSpPr>
                    <p:cNvPr id="432" name=""/>
                    <p:cNvSpPr/>
                    <p:nvPr/>
                  </p:nvSpPr>
                  <p:spPr>
                    <a:xfrm>
                      <a:off x="6778080" y="4830480"/>
                      <a:ext cx="1843560" cy="1640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3" name=""/>
                    <p:cNvSpPr/>
                    <p:nvPr/>
                  </p:nvSpPr>
                  <p:spPr>
                    <a:xfrm>
                      <a:off x="6720840" y="4830480"/>
                      <a:ext cx="1958400" cy="1640520"/>
                    </a:xfrm>
                    <a:prstGeom prst="rect">
                      <a:avLst/>
                    </a:prstGeom>
                    <a:noFill/>
                    <a:ln w="0">
                      <a:solidFill>
                        <a:srgbClr val="a0a0a0"/>
                      </a:solidFill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434" name=""/>
                <p:cNvSpPr/>
                <p:nvPr/>
              </p:nvSpPr>
              <p:spPr>
                <a:xfrm>
                  <a:off x="838080" y="1814400"/>
                  <a:ext cx="7848360" cy="4662360"/>
                </a:xfrm>
                <a:prstGeom prst="rect">
                  <a:avLst/>
                </a:prstGeom>
                <a:noFill/>
                <a:ln w="11160">
                  <a:solidFill>
                    <a:srgbClr val="a0a0a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35" name=""/>
              <p:cNvSpPr/>
              <p:nvPr/>
            </p:nvSpPr>
            <p:spPr>
              <a:xfrm>
                <a:off x="2895480" y="3792600"/>
                <a:ext cx="1981440" cy="70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Conformidad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Test Significació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858000" y="5181480"/>
                <a:ext cx="1676520" cy="1321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rne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Redes neuronales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952880" y="5257800"/>
                <a:ext cx="1676520" cy="10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Spearma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ffffcc"/>
                    </a:solidFill>
                    <a:latin typeface="Comic Sans MS"/>
                  </a:rPr>
                  <a:t>Kendall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896-B05A-4278-B4DA-1F45E426FF94}" type="slidenum">
              <a:t>30</a:t>
            </a:fld>
          </a:p>
        </p:txBody>
      </p:sp>
    </p:spTree>
  </p:cSld>
  <p:transition>
    <p:random/>
  </p:transition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304920"/>
            <a:ext cx="9144000" cy="66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>
              <a:lnSpc>
                <a:spcPct val="100000"/>
              </a:lnSpc>
              <a:spcBef>
                <a:spcPts val="1500"/>
              </a:spcBef>
              <a:buClr>
                <a:srgbClr val="d20000"/>
              </a:buClr>
              <a:buFont typeface="Comic Sans MS"/>
              <a:buAutoNum type="romanU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CONCLUSION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investigación (por encuesta o por experimentación) debe ser objeto de una rigurosa planificación “Investigamos o vamos a la playa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Rol de la estadística en la investigación científica es centr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Ningún análisis estadístico “elaborado” no merece ser realizado para datos de mala cali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Cuidado!!!! Con la utilización de los paquetes estadísticos cada vez mas al alcance de los no especialis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La necesidad de un trabajo coordinado “investigador - estadístico”, debiera ser una práctica corriente en la investigación científica responsabl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499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Importancia de los servicios de apoyo en aspectos cuantitativos al interior de los centros de investigación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F01-FE48-4C1A-A724-C5A1FE97E221}" type="slidenum">
              <a:t>31</a:t>
            </a:fld>
          </a:p>
        </p:txBody>
      </p:sp>
    </p:spTree>
  </p:cSld>
  <p:transition spd="slow">
    <p:zoom dir="in"/>
  </p:transition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0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0" y="304920"/>
            <a:ext cx="91440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50796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5079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20000"/>
                </a:solidFill>
                <a:latin typeface="Comic Sans MS"/>
              </a:rPr>
              <a:t>EJEMPLO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16000" y="2421000"/>
            <a:ext cx="9144000" cy="23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48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valuar el rendimiento académico en la Facultad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609480" indent="-648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Ciencias y Tecnología de la UM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1263600" indent="-4633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AAA-F8EA-4310-8107-86B778E22460}" type="slidenum">
              <a:t>32</a:t>
            </a:fld>
          </a:p>
        </p:txBody>
      </p:sp>
    </p:spTree>
  </p:cSld>
  <p:transition spd="slow">
    <p:zoom dir="in"/>
  </p:transition>
  <p:timing>
    <p:tnLst>
      <p:par>
        <p:cTn id="934" dur="indefinite" restart="never" nodeType="tmRoot">
          <p:childTnLst>
            <p:seq>
              <p:cTn id="935" dur="indefinite" nodeType="mainSeq">
                <p:childTnLst>
                  <p:par>
                    <p:cTn id="936" fill="hold">
                      <p:stCondLst>
                        <p:cond delay="0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2280" y="152280"/>
            <a:ext cx="593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jemplo: </a:t>
            </a:r>
            <a:r>
              <a:rPr b="0" lang="es-ES_tradnl" sz="2400" spc="-1" strike="noStrike">
                <a:solidFill>
                  <a:srgbClr val="d20000"/>
                </a:solidFill>
                <a:latin typeface="Times New Roman"/>
              </a:rPr>
              <a:t>MATRIZ MAP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52280" y="6094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Times New Roman"/>
              </a:rPr>
              <a:t>Evaluación del rendimiento académico en la Facultad de Humanidad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92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Resultados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828800" y="127944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86200" y="1219320"/>
            <a:ext cx="23623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de colec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Times New Roman"/>
              </a:rPr>
              <a:t>(Fuentes de colecta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304920" y="1066680"/>
            <a:ext cx="8610480" cy="5562720"/>
            <a:chOff x="304920" y="1066680"/>
            <a:chExt cx="8610480" cy="5562720"/>
          </a:xfrm>
        </p:grpSpPr>
        <p:sp>
          <p:nvSpPr>
            <p:cNvPr id="447" name=""/>
            <p:cNvSpPr/>
            <p:nvPr/>
          </p:nvSpPr>
          <p:spPr>
            <a:xfrm>
              <a:off x="304920" y="1066680"/>
              <a:ext cx="8610480" cy="5562720"/>
            </a:xfrm>
            <a:prstGeom prst="rect">
              <a:avLst/>
            </a:prstGeom>
            <a:noFill/>
            <a:ln w="572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384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9810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9588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04920" y="198108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8720" y="1066680"/>
              <a:ext cx="0" cy="556272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04920" y="342900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920" y="5334120"/>
              <a:ext cx="8610480" cy="0"/>
            </a:xfrm>
            <a:prstGeom prst="line">
              <a:avLst/>
            </a:prstGeom>
            <a:ln w="93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943600" y="1127160"/>
            <a:ext cx="175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99"/>
                </a:solidFill>
                <a:latin typeface="Times New Roman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8153280" y="10810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990099"/>
                </a:solidFill>
                <a:latin typeface="Times New Roman"/>
              </a:rPr>
              <a:t>n</a:t>
            </a:r>
            <a:endParaRPr b="0" lang="en-US" sz="4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04920" y="20574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Estimar el rendimiento promedio de la materia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04920" y="3505320"/>
            <a:ext cx="1752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dentificación de factores que inciden en el rendimiento académ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4920" y="525780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Comparación del rendimiento por sex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05120" y="2209680"/>
            <a:ext cx="2133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(Cualit. Ordina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930320" y="3429000"/>
            <a:ext cx="228600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2: hrs. de estudio en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la casa por día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3: Sex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4: Tipo de Colegi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800600" y="3429000"/>
            <a:ext cx="228600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trevi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Encuesta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962520" y="35812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038480" y="39625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038480" y="457200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4876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62520" y="5181480"/>
            <a:ext cx="76176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572360" y="2286000"/>
            <a:ext cx="13266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visión de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Registro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86200" y="2590920"/>
            <a:ext cx="762120" cy="0"/>
          </a:xfrm>
          <a:prstGeom prst="line">
            <a:avLst/>
          </a:prstGeom>
          <a:ln w="2844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2209680"/>
            <a:ext cx="175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Intervalo de confianza de un promedi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96252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Regresión Logística Ordin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867280" y="556272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Mann-Whitne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5880" y="59436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- Paramétr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978920" y="5545080"/>
            <a:ext cx="182376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cc"/>
                </a:solidFill>
                <a:latin typeface="Times New Roman"/>
              </a:rPr>
              <a:t>X1: Rendimiento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Times New Roman"/>
              </a:rPr>
              <a:t>X5: Eda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F512-787D-4C7C-BC5E-E9F15D73EB3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77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72" dur="770" fill="hold"/>
                                        <p:tgtEl>
                                          <p:spTgt spid="4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4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76" dur="77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77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81" dur="770" fill="hold"/>
                                        <p:tgtEl>
                                          <p:spTgt spid="45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83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85" dur="77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77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0" dur="770" fill="hold"/>
                                        <p:tgtEl>
                                          <p:spTgt spid="4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2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8" dur="77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9" dur="770" fill="hold"/>
                                        <p:tgtEl>
                                          <p:spTgt spid="45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01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03" dur="77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77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0" dur="770" fill="hold"/>
                                        <p:tgtEl>
                                          <p:spTgt spid="44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2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14" dur="77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77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770" fill="hold"/>
                                        <p:tgtEl>
                                          <p:spTgt spid="4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1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23" dur="77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7" dur="77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28" dur="770" fill="hold"/>
                                        <p:tgtEl>
                                          <p:spTgt spid="4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0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2" dur="77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77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37" dur="770" fill="hold"/>
                                        <p:tgtEl>
                                          <p:spTgt spid="4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39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1" dur="77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77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8" dur="770" fill="hold"/>
                                        <p:tgtEl>
                                          <p:spTgt spid="4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50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52" dur="77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5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67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0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7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6" dur="77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7" dur="770" fill="hold"/>
                                        <p:tgtEl>
                                          <p:spTgt spid="4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79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1" dur="77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5" dur="77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6" dur="770" fill="hold"/>
                                        <p:tgtEl>
                                          <p:spTgt spid="46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8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0" dur="77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6" dur="77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7" dur="770" fill="hold"/>
                                        <p:tgtEl>
                                          <p:spTgt spid="4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1" dur="77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77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6" dur="770" fill="hold"/>
                                        <p:tgtEl>
                                          <p:spTgt spid="4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08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0" dur="77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77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15" dur="770" fill="hold"/>
                                        <p:tgtEl>
                                          <p:spTgt spid="4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7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9" dur="77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3" dur="77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24" dur="770" fill="hold"/>
                                        <p:tgtEl>
                                          <p:spTgt spid="4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26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28" dur="77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77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33" dur="770" fill="hold"/>
                                        <p:tgtEl>
                                          <p:spTgt spid="47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35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7" dur="77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3" dur="77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4" dur="770" fill="hold"/>
                                        <p:tgtEl>
                                          <p:spTgt spid="45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46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48" dur="77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62760" cy="36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800" spc="-1" strike="noStrike">
                <a:solidFill>
                  <a:srgbClr val="35cd35"/>
                </a:solidFill>
                <a:latin typeface="Comic Sans MS"/>
              </a:rPr>
              <a:t>GRACIAS POR SU ATENCION!!!!</a:t>
            </a:r>
            <a:br>
              <a:rPr sz="3600"/>
            </a:br>
            <a:br>
              <a:rPr sz="36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ENTRO DE ESTADISTICA APLICADA</a:t>
            </a:r>
            <a:br>
              <a:rPr sz="3200"/>
            </a:br>
            <a:r>
              <a:rPr b="0" i="1" lang="es-ES_tradnl" sz="3200" spc="-1" strike="noStrike">
                <a:solidFill>
                  <a:srgbClr val="35cd35"/>
                </a:solidFill>
                <a:latin typeface="Comic Sans MS"/>
              </a:rPr>
              <a:t>CONVENIO CIUF- UMSS</a:t>
            </a:r>
            <a:endParaRPr b="0" i="1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498680" y="4687920"/>
            <a:ext cx="2065320" cy="17654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5778360" y="4664160"/>
            <a:ext cx="2322720" cy="17892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F13-3356-4FC1-B17E-5A4AD775EFAA}" type="slidenum">
              <a:t>34</a:t>
            </a:fld>
          </a:p>
        </p:txBody>
      </p:sp>
    </p:spTree>
  </p:cSld>
  <p:transition spd="slow">
    <p:zoom dir="in"/>
  </p:transition>
  <p:timing>
    <p:tnLst>
      <p:par>
        <p:cTn id="1150" dur="indefinite" restart="never" nodeType="tmRoot">
          <p:childTnLst>
            <p:seq>
              <p:cTn id="1151" dur="indefinite" nodeType="mainSeq">
                <p:childTnLst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6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3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2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66680" y="2425680"/>
            <a:ext cx="2286000" cy="11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d20000"/>
                </a:solidFill>
                <a:latin typeface="Comic Sans MS"/>
              </a:rPr>
              <a:t>COLECTA DE DAT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2422440"/>
            <a:ext cx="22860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Observ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251460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29000" y="3048120"/>
            <a:ext cx="1066680" cy="241200"/>
          </a:xfrm>
          <a:prstGeom prst="rightArrow">
            <a:avLst>
              <a:gd name="adj1" fmla="val 50000"/>
              <a:gd name="adj2" fmla="val 110560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914400"/>
            <a:ext cx="822960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Times New Roman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03F1-11A0-4E13-87C5-8C9872C124F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3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304920"/>
            <a:ext cx="8762760" cy="52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DE PLANIFIC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objetivos -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de Observación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de la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obl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Vari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 un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de Colecta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de datos (Cualitativo – Cuantitativo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Plan de Muestre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Tamaño de la Muestr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Selección y esbozo</a:t>
            </a:r>
            <a:r>
              <a:rPr b="1" lang="es-MX" sz="20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Estadístico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0B9C-1889-4DE5-99A8-7E6101C62CFB}" type="slidenum">
              <a:t>5</a:t>
            </a:fld>
          </a:p>
        </p:txBody>
      </p:sp>
    </p:spTree>
  </p:cSld>
  <p:transition spd="med"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33520" y="304920"/>
            <a:ext cx="8762760" cy="47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    </a:t>
            </a: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PROBLEMAS EN INVESTIGAC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          </a:t>
            </a: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EXPERIMENTACIÓ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Resultados  Esperado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y condiciones experimentale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ES_tradnl" sz="2000" spc="-1" strike="noStrike">
                <a:solidFill>
                  <a:srgbClr val="35cd35"/>
                </a:solidFill>
                <a:latin typeface="Comic Sans MS"/>
              </a:rPr>
              <a:t>Factores</a:t>
            </a:r>
            <a:r>
              <a:rPr b="0" lang="es-ES_tradnl" sz="2000" spc="-1" strike="noStrike">
                <a:solidFill>
                  <a:srgbClr val="ff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las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Unidades Experimenta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Observaciones</a:t>
            </a: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 (variable de respuesta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Diseño Experimental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250"/>
              </a:spcBef>
              <a:buClr>
                <a:srgbClr val="ffffcc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cc"/>
                </a:solidFill>
                <a:latin typeface="Comic Sans MS"/>
              </a:rPr>
              <a:t>Definición del </a:t>
            </a:r>
            <a:r>
              <a:rPr b="0" lang="es-MX" sz="2000" spc="-1" strike="noStrike">
                <a:solidFill>
                  <a:srgbClr val="35cd35"/>
                </a:solidFill>
                <a:latin typeface="Comic Sans MS"/>
              </a:rPr>
              <a:t>Método Matemático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34A09-B0C0-4F95-9AC8-84E61A6A00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33520" y="304920"/>
            <a:ext cx="8762760" cy="39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d20000"/>
                </a:solidFill>
                <a:latin typeface="Comic Sans MS"/>
              </a:rPr>
              <a:t>II. BASES METODOLOGICAS PARA EL DISEÑO DE LA INVESTIG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d20000"/>
                </a:solidFill>
                <a:latin typeface="Comic Sans MS"/>
              </a:rPr>
              <a:t>ESTUDIO POR OBSERVAC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990099"/>
                </a:solidFill>
                <a:latin typeface="Comic Sans MS"/>
              </a:rPr>
              <a:t> </a:t>
            </a:r>
            <a:endParaRPr b="0" lang="en-US" sz="1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3C79-5B0F-4C4B-936C-99A01C3B2B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1628640"/>
            <a:ext cx="7467480" cy="49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Modelo conceptual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Objetivos – Resultados Esper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Necesidad de inform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buClr>
                <a:srgbClr val="ffff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El resultado esperado puede estar formulado bajo la forma d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PREGUN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o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ESPUESTA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 (hipótesi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 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58840" indent="-25884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Al finalizar esta etapa se dispone: Lista de resultados </a:t>
            </a:r>
            <a:r>
              <a:rPr b="0" lang="es-ES" sz="2400" spc="-1" strike="noStrike">
                <a:solidFill>
                  <a:srgbClr val="0000ff"/>
                </a:solidFill>
                <a:latin typeface="Comic Sans MS"/>
              </a:rPr>
              <a:t>R</a:t>
            </a:r>
            <a:r>
              <a:rPr b="0" lang="es-ES" sz="2400" spc="-1" strike="noStrike" baseline="-25000">
                <a:solidFill>
                  <a:srgbClr val="0000ff"/>
                </a:solidFill>
                <a:latin typeface="Comic Sans MS"/>
              </a:rPr>
              <a:t>i</a:t>
            </a:r>
            <a:r>
              <a:rPr b="0" lang="es-ES" sz="2400" spc="-1" strike="noStrike">
                <a:solidFill>
                  <a:srgbClr val="ffffcc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05120" y="623880"/>
            <a:ext cx="755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1. DEFINICIÓN DE RESULTADOS ESPERAD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18F2-358F-462A-9D1D-8AE84A9433EE}" type="slidenum">
              <a:t>8</a:t>
            </a:fld>
          </a:p>
        </p:txBody>
      </p:sp>
    </p:spTree>
  </p:cSld>
  <p:transition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09480" y="22860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2. DEFINICIÓN DE LA POBLACIÓN Y UNIDADES DE OBSERVACIÓ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640" y="1844640"/>
            <a:ext cx="88423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Pobl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Conjunto de “individuos” a los cuales nos interesam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Población finita o infinit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8800" y="3957480"/>
            <a:ext cx="84916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Comic Sans MS"/>
              </a:rPr>
              <a:t>Unidades de observació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“Individuos” que son observado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85920" indent="-385920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cc"/>
                </a:solidFill>
                <a:latin typeface="Comic Sans MS"/>
              </a:rPr>
              <a:t>- Ejemplo: Personas, familias, empresas, marcas, etc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FF75-1DA9-494A-8415-C78A5E9CAB14}" type="slidenum">
              <a:t>9</a:t>
            </a:fld>
          </a:p>
        </p:txBody>
      </p:sp>
    </p:spTree>
  </p:cSld>
  <p:transition>
    <p:random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19:04:21Z</dcterms:created>
  <dc:creator>Usuario Privado</dc:creator>
  <dc:description/>
  <dc:language>en-US</dc:language>
  <cp:lastModifiedBy>CESA</cp:lastModifiedBy>
  <dcterms:modified xsi:type="dcterms:W3CDTF">2004-05-25T19:26:43Z</dcterms:modified>
  <cp:revision>133</cp:revision>
  <dc:subject/>
  <dc:title>ROL DE LA ESTADISTICA APLICADA EN INVESTIGACION CIENTIFICA</dc:title>
</cp:coreProperties>
</file>