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chimes.wav" ContentType="audio/x-wav"/>
  <Override PartName="/ppt/media/setup0.wav" ContentType="audio/x-wav"/>
  <Override PartName="/ppt/media/Robotz.%20Error.wav" ContentType="audio/x-wav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comments/comment24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LUIS  VILLARROEL" initials="L V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<Relationship Id="rId39" Type="http://schemas.openxmlformats.org/officeDocument/2006/relationships/commentAuthors" Target="commentAuthors.xml"/>
</Relationships>
</file>

<file path=ppt/comments/comment24.xml><?xml version="1.0" encoding="utf-8"?>
<p:cmLst xmlns:p="http://schemas.openxmlformats.org/presentationml/2006/main">
  <p:cm authorId="0" dt="1996-03-29T05:47:45.040000000" idx="1">
    <p:pos x="65808" y="787"/>
    <p:text/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EA44E-945C-4A67-8198-181B4F7E8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1F986-D484-464A-92B2-EC353B03B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7FDFB-747B-404F-8B53-53607A079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6D355-78FB-43CA-BE45-7FD21DBFE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0E16E-48FD-4665-AAED-48B6C1B35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05DDD-6852-4FC1-8501-D2FCDE605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9BFF5-F233-44F8-A463-8637E4855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00EF0-7A78-446A-8422-AD91E8715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B017B-E328-4D8B-9A14-BA7AA2204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91281-BBF4-4F0C-9538-B78328238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0DBE7-1F32-4FFB-BF11-E1B33E011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E60EE-E7F9-4F8C-B49A-5240CA039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A57BA-69FB-4521-8A09-6E79068EC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EB5A1-917E-451A-9B6C-D8334CA8F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0DDDF-40F7-4937-B10E-27B4A1E58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709F2-DA6E-41D0-8108-AD90A7ACB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4E449-4003-4E66-80D6-3CD49B308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5A471-6E4A-4C01-8205-599482EBD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8A186-677F-44B4-A8EE-02BC03333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8180E-FD78-4FF7-8796-056F75A6A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83C85-6D0C-4E52-89D8-9D0DC9996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8D196-3D80-4E86-BE0D-7D9795F35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CEBBD-EFB2-43EA-9FF1-ABCC79E66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2E060-B909-41FA-81BE-D57CE5479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57200" y="992160"/>
            <a:ext cx="8152920" cy="1599840"/>
            <a:chOff x="457200" y="992160"/>
            <a:chExt cx="8152920" cy="1599840"/>
          </a:xfrm>
        </p:grpSpPr>
        <p:sp>
          <p:nvSpPr>
            <p:cNvPr id="1" name=""/>
            <p:cNvSpPr/>
            <p:nvPr/>
          </p:nvSpPr>
          <p:spPr>
            <a:xfrm>
              <a:off x="2886480" y="9921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811960" y="11574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71280" y="13780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4D0C0-9730-43B7-8CE0-9B1C5AF6C58C}" type="slidenum">
              <a:rPr b="0" lang="es-E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457200" y="2363760"/>
            <a:ext cx="8152920" cy="1599840"/>
            <a:chOff x="457200" y="2363760"/>
            <a:chExt cx="8152920" cy="1599840"/>
          </a:xfrm>
        </p:grpSpPr>
        <p:sp>
          <p:nvSpPr>
            <p:cNvPr id="47" name=""/>
            <p:cNvSpPr/>
            <p:nvPr/>
          </p:nvSpPr>
          <p:spPr>
            <a:xfrm>
              <a:off x="2886480" y="23637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811960" y="25290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71280" y="27496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A093E-A53E-421F-A232-ABD6FC410AD5}" type="slidenum">
              <a:rPr b="0" lang="es-E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audio" Target="../media/chimes.wav"/><Relationship Id="rId4" Type="http://schemas.openxmlformats.org/officeDocument/2006/relationships/audio" Target="../media/setup0.wav"/><Relationship Id="rId5" Type="http://schemas.openxmlformats.org/officeDocument/2006/relationships/audio" Target="../media/Robotz.%20Error.wav"/><Relationship Id="rId6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Robotz.%20Error.wav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5564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d20000"/>
                </a:solidFill>
                <a:latin typeface="Comic Sans MS"/>
              </a:rPr>
              <a:t>METODOLOGIA DE LA INVESTIGACION: MATRIZ MAPIC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44280" y="5334120"/>
            <a:ext cx="9144000" cy="1523880"/>
            <a:chOff x="44280" y="5334120"/>
            <a:chExt cx="9144000" cy="1523880"/>
          </a:xfrm>
        </p:grpSpPr>
        <p:pic>
          <p:nvPicPr>
            <p:cNvPr id="93" name="" descr=""/>
            <p:cNvPicPr/>
            <p:nvPr/>
          </p:nvPicPr>
          <p:blipFill>
            <a:blip r:embed="rId1"/>
            <a:stretch/>
          </p:blipFill>
          <p:spPr>
            <a:xfrm>
              <a:off x="7735680" y="5334120"/>
              <a:ext cx="1452600" cy="15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" descr=""/>
            <p:cNvPicPr/>
            <p:nvPr/>
          </p:nvPicPr>
          <p:blipFill>
            <a:blip r:embed="rId2"/>
            <a:stretch/>
          </p:blipFill>
          <p:spPr>
            <a:xfrm>
              <a:off x="44280" y="5334120"/>
              <a:ext cx="1676520" cy="1522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" name=""/>
          <p:cNvSpPr/>
          <p:nvPr/>
        </p:nvSpPr>
        <p:spPr>
          <a:xfrm>
            <a:off x="1474920" y="3932280"/>
            <a:ext cx="619272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55000"/>
          </a:bodyPr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33"/>
                </a:solidFill>
                <a:latin typeface="Comic Sans MS"/>
              </a:rPr>
              <a:t>Expositor: Ms. Sc. Luis Villarroel P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33"/>
                </a:solidFill>
                <a:latin typeface="Comic Sans MS"/>
              </a:rPr>
              <a:t>Cochabamba, mayo 2004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58920" y="333360"/>
            <a:ext cx="810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Comic Sans MS"/>
              </a:rPr>
              <a:t>Proyecto Centro de Estadística Aplicada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Comic Sans MS"/>
              </a:rPr>
              <a:t>CES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2D380-8034-4C4C-8D90-BC5EAAE41B83}" type="slidenum">
              <a:t>1</a:t>
            </a:fld>
          </a:p>
        </p:txBody>
      </p:sp>
    </p:spTree>
  </p:cSld>
  <p:transition spd="slow">
    <p:strips dir="lu"/>
    <p:sndAc>
      <p:stSnd>
        <p:snd r:embed="rId3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9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500"/>
                            </p:stCondLst>
                            <p:childTnLst>
                              <p:par>
                                <p:cTn id="2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etup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3500"/>
                            </p:stCondLst>
                            <p:childTnLst>
                              <p:par>
                                <p:cTn id="2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Robotz.%20Err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722520" y="1854360"/>
            <a:ext cx="753696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¿Que es una variable?</a:t>
            </a:r>
            <a:r>
              <a:rPr b="0" i="1" lang="es-ES_tradnl" sz="2400" spc="-1" strike="noStrike">
                <a:solidFill>
                  <a:srgbClr val="006699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Características o atributos de los “individuos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a estudiar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176480" y="636480"/>
            <a:ext cx="57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DEFINICION DE LAS VARIABLES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49520" y="3432240"/>
            <a:ext cx="568764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Existen dos problemas a resolve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Número de variab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Naturaleza del dat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AADFE-6D50-4BD5-B995-EB18830ADA3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762120" y="121932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Variables categóricas y variables rea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69960" y="1908000"/>
            <a:ext cx="8016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buClr>
                <a:srgbClr val="ffff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Variables categóricas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o cualitativas</a:t>
            </a: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son aquellas que toman un número limitado de modalidade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jemplo : el sexo, estado civil, 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A cada modalidad corresponde una categoría de individuos; estas categorías forman una partición de la población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09480" y="4506840"/>
            <a:ext cx="80773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90000"/>
              </a:lnSpc>
              <a:spcBef>
                <a:spcPts val="1500"/>
              </a:spcBef>
              <a:buClr>
                <a:srgbClr val="ffffcc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Variables reales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o cuantitativas son las que toman valores reales para los cuales podemos calcular resúmenes numéricos ( media, varianza,... )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jemplo : edad, ingreso,rendimiento,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62388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 DEFINICION DE LAS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A568E-E01E-4189-98EE-0647DBE4AEC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856440" y="1295280"/>
            <a:ext cx="242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0000"/>
                </a:solidFill>
                <a:latin typeface="Comic Sans MS"/>
              </a:rPr>
              <a:t>Tipos de datos: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2120" y="1989000"/>
            <a:ext cx="754380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Datos cuant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de medición – continu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de conteo - discret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93880" y="690480"/>
            <a:ext cx="57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DEFINICION DE LAS VARIABLES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62120" y="3645000"/>
            <a:ext cx="754380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Datos cual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binari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ordina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nomina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40954-C4C3-4700-A56D-1719866B06D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533520" y="39528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3. DEFINICIÓN DE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1219320" y="2286000"/>
            <a:ext cx="6628680" cy="3580920"/>
            <a:chOff x="1219320" y="2286000"/>
            <a:chExt cx="6628680" cy="3580920"/>
          </a:xfrm>
        </p:grpSpPr>
        <p:grpSp>
          <p:nvGrpSpPr>
            <p:cNvPr id="125" name=""/>
            <p:cNvGrpSpPr/>
            <p:nvPr/>
          </p:nvGrpSpPr>
          <p:grpSpPr>
            <a:xfrm>
              <a:off x="1229040" y="2290680"/>
              <a:ext cx="6607440" cy="3570840"/>
              <a:chOff x="1229040" y="2290680"/>
              <a:chExt cx="6607440" cy="3570840"/>
            </a:xfrm>
          </p:grpSpPr>
          <p:grpSp>
            <p:nvGrpSpPr>
              <p:cNvPr id="126" name=""/>
              <p:cNvGrpSpPr/>
              <p:nvPr/>
            </p:nvGrpSpPr>
            <p:grpSpPr>
              <a:xfrm>
                <a:off x="1229040" y="2290680"/>
                <a:ext cx="3228120" cy="1033200"/>
                <a:chOff x="1229040" y="2290680"/>
                <a:chExt cx="3228120" cy="103320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1323720" y="2290680"/>
                  <a:ext cx="3038400" cy="103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RESULTADOS 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ESPERADOS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1229040" y="2290680"/>
                  <a:ext cx="3228120" cy="103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" name=""/>
              <p:cNvGrpSpPr/>
              <p:nvPr/>
            </p:nvGrpSpPr>
            <p:grpSpPr>
              <a:xfrm>
                <a:off x="4457880" y="2290680"/>
                <a:ext cx="3378600" cy="1033200"/>
                <a:chOff x="4457880" y="2290680"/>
                <a:chExt cx="3378600" cy="1033200"/>
              </a:xfrm>
            </p:grpSpPr>
            <p:sp>
              <p:nvSpPr>
                <p:cNvPr id="130" name=""/>
                <p:cNvSpPr/>
                <p:nvPr/>
              </p:nvSpPr>
              <p:spPr>
                <a:xfrm>
                  <a:off x="4553640" y="2290680"/>
                  <a:ext cx="3187080" cy="103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VARIABLES – TIPO DE VARIABLE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4457880" y="2290680"/>
                  <a:ext cx="3378600" cy="103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" name=""/>
              <p:cNvGrpSpPr/>
              <p:nvPr/>
            </p:nvGrpSpPr>
            <p:grpSpPr>
              <a:xfrm>
                <a:off x="1229040" y="3324240"/>
                <a:ext cx="3228120" cy="845280"/>
                <a:chOff x="1229040" y="3324240"/>
                <a:chExt cx="3228120" cy="84528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1323720" y="3324240"/>
                  <a:ext cx="3038400" cy="84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1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1229040" y="3324240"/>
                  <a:ext cx="3228120" cy="84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" name=""/>
              <p:cNvGrpSpPr/>
              <p:nvPr/>
            </p:nvGrpSpPr>
            <p:grpSpPr>
              <a:xfrm>
                <a:off x="4457880" y="3324240"/>
                <a:ext cx="3378600" cy="845280"/>
                <a:chOff x="4457880" y="3324240"/>
                <a:chExt cx="3378600" cy="845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553640" y="3324240"/>
                  <a:ext cx="3187080" cy="84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1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ntitativa, Continua)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 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2 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litativa, Binari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457880" y="3324240"/>
                  <a:ext cx="3378600" cy="84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" name=""/>
              <p:cNvGrpSpPr/>
              <p:nvPr/>
            </p:nvGrpSpPr>
            <p:grpSpPr>
              <a:xfrm>
                <a:off x="1229040" y="4170240"/>
                <a:ext cx="3228120" cy="1032840"/>
                <a:chOff x="1229040" y="4170240"/>
                <a:chExt cx="3228120" cy="1032840"/>
              </a:xfrm>
            </p:grpSpPr>
            <p:sp>
              <p:nvSpPr>
                <p:cNvPr id="139" name=""/>
                <p:cNvSpPr/>
                <p:nvPr/>
              </p:nvSpPr>
              <p:spPr>
                <a:xfrm>
                  <a:off x="1323720" y="4170240"/>
                  <a:ext cx="3038400" cy="103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2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229040" y="4170240"/>
                  <a:ext cx="3228120" cy="1032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" name=""/>
              <p:cNvGrpSpPr/>
              <p:nvPr/>
            </p:nvGrpSpPr>
            <p:grpSpPr>
              <a:xfrm>
                <a:off x="4457880" y="4170240"/>
                <a:ext cx="3378600" cy="1032840"/>
                <a:chOff x="4457880" y="4170240"/>
                <a:chExt cx="3378600" cy="1032840"/>
              </a:xfrm>
            </p:grpSpPr>
            <p:sp>
              <p:nvSpPr>
                <p:cNvPr id="142" name=""/>
                <p:cNvSpPr/>
                <p:nvPr/>
              </p:nvSpPr>
              <p:spPr>
                <a:xfrm>
                  <a:off x="4553640" y="4170240"/>
                  <a:ext cx="3187080" cy="103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3 (Cualitativa, Ordinal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1 (Cuantitativa, Continu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4 (Cualitativa, Nominal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457880" y="4170240"/>
                  <a:ext cx="3378600" cy="1032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1229040" y="5203800"/>
                <a:ext cx="3228120" cy="657720"/>
                <a:chOff x="1229040" y="5203800"/>
                <a:chExt cx="3228120" cy="657720"/>
              </a:xfrm>
            </p:grpSpPr>
            <p:sp>
              <p:nvSpPr>
                <p:cNvPr id="145" name=""/>
                <p:cNvSpPr/>
                <p:nvPr/>
              </p:nvSpPr>
              <p:spPr>
                <a:xfrm>
                  <a:off x="1323720" y="5203800"/>
                  <a:ext cx="3038400" cy="65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3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1229040" y="5203800"/>
                  <a:ext cx="3228120" cy="65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" name=""/>
              <p:cNvGrpSpPr/>
              <p:nvPr/>
            </p:nvGrpSpPr>
            <p:grpSpPr>
              <a:xfrm>
                <a:off x="4457880" y="5203800"/>
                <a:ext cx="3378600" cy="657720"/>
                <a:chOff x="4457880" y="5203800"/>
                <a:chExt cx="3378600" cy="657720"/>
              </a:xfrm>
            </p:grpSpPr>
            <p:sp>
              <p:nvSpPr>
                <p:cNvPr id="148" name=""/>
                <p:cNvSpPr/>
                <p:nvPr/>
              </p:nvSpPr>
              <p:spPr>
                <a:xfrm>
                  <a:off x="4553640" y="5203800"/>
                  <a:ext cx="3187080" cy="65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s-ES_tradnl" sz="1800" spc="-1" strike="noStrike">
                      <a:solidFill>
                        <a:srgbClr val="ffffcc"/>
                      </a:solidFill>
                      <a:latin typeface="Comic Sans MS"/>
                    </a:rPr>
                    <a:t>1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ntitativa, Continu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4457880" y="5203800"/>
                  <a:ext cx="3378600" cy="65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50" name=""/>
            <p:cNvSpPr/>
            <p:nvPr/>
          </p:nvSpPr>
          <p:spPr>
            <a:xfrm>
              <a:off x="1219320" y="2286000"/>
              <a:ext cx="6628680" cy="358092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723600" y="1219320"/>
            <a:ext cx="366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Número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de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99A8F-6526-4FA7-84FA-7F0563411AEF}" type="slidenum">
              <a:t>13</a:t>
            </a:fld>
          </a:p>
        </p:txBody>
      </p:sp>
    </p:spTree>
  </p:cSld>
  <p:transition>
    <p:random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" y="198900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Comic Sans MS"/>
              </a:rPr>
              <a:t>Primari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Cualitativ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Reuniones de grup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ntrevistas en profundida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Cuantitativ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ncuesta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xperiment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270800" y="1197000"/>
            <a:ext cx="412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Fuentes de informació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57080" y="438624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Comic Sans MS"/>
              </a:rPr>
              <a:t>Secundari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Intern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Registr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Informes Intern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Externas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Publicacione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stadísticas sectoriale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Informes Extern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2D1CD-D4D7-4727-8457-51823A3B48A7}" type="slidenum">
              <a:t>14</a:t>
            </a:fld>
          </a:p>
        </p:txBody>
      </p:sp>
    </p:spTree>
  </p:cSld>
  <p:transition>
    <p:random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85200" y="1197000"/>
            <a:ext cx="513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Métodos de colecta primari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395280" y="2133720"/>
          <a:ext cx="8280360" cy="4365360"/>
        </p:xfrm>
        <a:graphic>
          <a:graphicData uri="http://schemas.openxmlformats.org/drawingml/2006/table">
            <a:tbl>
              <a:tblPr/>
              <a:tblGrid>
                <a:gridCol w="4140360"/>
                <a:gridCol w="41400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INVESTIGACIÓN CUANTITATIVA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INVESTIGACION CUALITATIVA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Busca las causas sin recurrir a la interpretación subjetiv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nterés por comprender el comportamiento human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Aproximación lógico-positivist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Aproximación fenomenológic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edición controlad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edición observacional natural, sin control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bjetivismo, perspectiva extern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Subjetivismo, perspectiva itern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verificacionista, confirmatoria, reduccionista, inferencial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descubrimiento, exploratoria, descriptiva, inductiv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resultad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proces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mportancia de la formalidad, datos exactos y rigurosos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mportancia del contenido, datos reales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articular – Intenta analizar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General – Intenta sintetizar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BD428-B0F5-456A-92DF-F2228DBA1D8F}" type="slidenum">
              <a:t>15</a:t>
            </a:fld>
          </a:p>
        </p:txBody>
      </p:sp>
    </p:spTree>
  </p:cSld>
  <p:transition>
    <p:random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287000" y="1197000"/>
            <a:ext cx="66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Investigación cualitativa y sus méto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12720" y="2133720"/>
            <a:ext cx="9144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ntrevistas en profundida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Reuniones de grup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Semi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hillips 66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Delphi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In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écnicas proyectiv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écnicas de creativida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Observación</a:t>
            </a: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erson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de Contenid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uditor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67FB5-8FCF-4EE1-85E7-4FA4553D7C5C}" type="slidenum">
              <a:t>16</a:t>
            </a:fld>
          </a:p>
        </p:txBody>
      </p:sp>
    </p:spTree>
  </p:cSld>
  <p:transition>
    <p:random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287360" y="1197000"/>
            <a:ext cx="695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Investigación cuantitativa y sus méto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12720" y="213372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Encuestas</a:t>
            </a: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i="1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i="1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erson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ost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elefónic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Encuestas periódica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B9196-1710-4145-9106-35697E0F062D}" type="slidenum">
              <a:t>17</a:t>
            </a:fld>
          </a:p>
        </p:txBody>
      </p:sp>
    </p:spTree>
  </p:cSld>
  <p:transition>
    <p:random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324000" y="90792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Procedimientos de selección de “individuos” de la población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142280" y="22860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685800" y="2122560"/>
            <a:ext cx="3504600" cy="1841760"/>
            <a:chOff x="685800" y="2122560"/>
            <a:chExt cx="3504600" cy="1841760"/>
          </a:xfrm>
        </p:grpSpPr>
        <p:sp>
          <p:nvSpPr>
            <p:cNvPr id="168" name=""/>
            <p:cNvSpPr/>
            <p:nvPr/>
          </p:nvSpPr>
          <p:spPr>
            <a:xfrm>
              <a:off x="685800" y="2357280"/>
              <a:ext cx="3352680" cy="110628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37880" y="2122560"/>
              <a:ext cx="135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Población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117440" y="3565440"/>
              <a:ext cx="918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Censo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4648320" y="2262240"/>
            <a:ext cx="3632760" cy="1701360"/>
            <a:chOff x="4648320" y="2262240"/>
            <a:chExt cx="3632760" cy="1701360"/>
          </a:xfrm>
        </p:grpSpPr>
        <p:sp>
          <p:nvSpPr>
            <p:cNvPr id="172" name=""/>
            <p:cNvSpPr/>
            <p:nvPr/>
          </p:nvSpPr>
          <p:spPr>
            <a:xfrm>
              <a:off x="4648320" y="2459520"/>
              <a:ext cx="3352680" cy="1034280"/>
            </a:xfrm>
            <a:prstGeom prst="ellipse">
              <a:avLst/>
            </a:prstGeom>
            <a:gradFill rotWithShape="0">
              <a:gsLst>
                <a:gs pos="0">
                  <a:srgbClr val="754617"/>
                </a:gs>
                <a:gs pos="50000">
                  <a:srgbClr val="ff9933"/>
                </a:gs>
                <a:gs pos="100000">
                  <a:srgbClr val="754617"/>
                </a:gs>
              </a:gsLst>
              <a:lin ang="5400000"/>
            </a:gra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928560" y="2262240"/>
              <a:ext cx="135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Población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334120" y="2854080"/>
              <a:ext cx="1523880" cy="44208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Muestra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036040" y="3564720"/>
              <a:ext cx="1326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Muestreo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250920" y="4338720"/>
            <a:ext cx="88930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n el caso de un plan de muestreo se plantean dos preguntas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90720" y="55022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¿cómo extrapolar a la población entera los resultados que se observaron sobre la muestra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963720" y="4956120"/>
            <a:ext cx="40356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¿cómo elegir la muestra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11840" y="762120"/>
            <a:ext cx="450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¿Qué es un plan de muestreo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BE385-0AA5-44CF-8661-D58FA6227CDF}" type="slidenum">
              <a:t>18</a:t>
            </a:fld>
          </a:p>
        </p:txBody>
      </p:sp>
    </p:spTree>
  </p:cSld>
  <p:transition>
    <p:random/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609480" y="3200400"/>
            <a:ext cx="4038840" cy="1371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  <a:effectLst>
            <a:outerShdw dist="107932" dir="189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133720"/>
            <a:ext cx="3886200" cy="3962160"/>
          </a:xfrm>
          <a:prstGeom prst="cube">
            <a:avLst>
              <a:gd name="adj" fmla="val 6435"/>
            </a:avLst>
          </a:prstGeom>
          <a:gradFill rotWithShape="0">
            <a:gsLst>
              <a:gs pos="0">
                <a:srgbClr val="ff9933"/>
              </a:gs>
              <a:gs pos="100000">
                <a:srgbClr val="7445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38080" y="1447920"/>
            <a:ext cx="822960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lemento clave: representatividad de la muestra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142280" y="41760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38080" y="36576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8000" indent="-378000">
              <a:lnSpc>
                <a:spcPct val="100000"/>
              </a:lnSpc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lanes probabilistic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562720" y="2666880"/>
            <a:ext cx="3581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s posible medir el erro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638680" y="3505320"/>
            <a:ext cx="403884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o existe un buen conocimiento de la 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638680" y="4572000"/>
            <a:ext cx="28958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La selección de “individuos” se responsabiliza al aza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62120" y="2057400"/>
            <a:ext cx="335268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Comic Sans MS"/>
              </a:rPr>
              <a:t>Tipos de muestreo</a:t>
            </a:r>
            <a:r>
              <a:rPr b="0" lang="es-ES_tradnl" sz="2400" spc="-1" strike="noStrike">
                <a:solidFill>
                  <a:srgbClr val="ff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31AA6-C8A5-4C33-AFB5-69DA07EB9D26}" type="slidenum">
              <a:t>19</a:t>
            </a:fld>
          </a:p>
        </p:txBody>
      </p:sp>
    </p:spTree>
  </p:cSld>
  <p:transition>
    <p:random/>
  </p:transition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1000"/>
                            </p:stCondLst>
                            <p:childTnLst>
                              <p:par>
                                <p:cTn id="39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50560" y="2123640"/>
            <a:ext cx="8692920" cy="396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CONTENID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. 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Introducción – Objetivos – problemas en investig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I.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Bases metodológicas para el diseño de la investigación – Matriz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            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MAPIC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II. Herramientas para el análisis e interpretación de dato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V.   Conclusion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83D4F-050D-4B4D-8559-D75D24D51EDF}" type="slidenum">
              <a:t>2</a:t>
            </a:fld>
          </a:p>
        </p:txBody>
      </p:sp>
    </p:spTree>
  </p:cSld>
  <p:transition spd="slow">
    <p:strips dir="lu"/>
    <p:sndAc>
      <p:stSnd>
        <p:snd r:embed="rId1" name="chimes.wav"/>
      </p:stSnd>
    </p:sndAc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Robotz.%20Err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228600" y="2819520"/>
            <a:ext cx="4038480" cy="1371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  <a:effectLst>
            <a:outerShdw dist="107932" dir="189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800600" y="1905120"/>
            <a:ext cx="3886200" cy="3962160"/>
          </a:xfrm>
          <a:prstGeom prst="cube">
            <a:avLst>
              <a:gd name="adj" fmla="val 6435"/>
            </a:avLst>
          </a:prstGeom>
          <a:gradFill rotWithShape="0">
            <a:gsLst>
              <a:gs pos="0">
                <a:srgbClr val="ff9933"/>
              </a:gs>
              <a:gs pos="100000">
                <a:srgbClr val="7445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880" y="327672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lanes no probabilístic</a:t>
            </a: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o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142280" y="61596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257800" y="3048120"/>
            <a:ext cx="4038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La selección de “individuos” se responsabiliza al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investigador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257800" y="4603680"/>
            <a:ext cx="342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xiste un buen conocimiento de la 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257800" y="222552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o es posible medir el erro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14DC9-319E-498C-AC9D-1A538F136FD8}" type="slidenum">
              <a:t>20</a:t>
            </a:fld>
          </a:p>
        </p:txBody>
      </p:sp>
    </p:spTree>
  </p:cSld>
  <p:transition>
    <p:random/>
  </p:transition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837360" y="55404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371600" y="4753080"/>
            <a:ext cx="7467480" cy="11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por convenienc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por cuot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“bola de nieve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990720" y="3706920"/>
            <a:ext cx="6476760" cy="7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es de muestreo no probabilistic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98560" y="1819440"/>
            <a:ext cx="512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es probabilistic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87600" y="2637000"/>
            <a:ext cx="7467480" cy="11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aleatorio y simpl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estratificad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conglom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967FB-49E9-4AA0-A912-1F0651CDD427}" type="slidenum">
              <a:t>21</a:t>
            </a:fld>
          </a:p>
        </p:txBody>
      </p:sp>
    </p:spTree>
  </p:cSld>
  <p:transition>
    <p:random/>
  </p:transition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762120" y="1905120"/>
            <a:ext cx="76197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roblema “complejo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ivel descriptivo – nivel inferenc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Criterios: Resultados esperados, variables que participan en el resultado, tipo de dato, método estadístico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33520" y="304920"/>
            <a:ext cx="7862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8800" indent="-388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6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TERMINACIÓN DEL TAMAÑO DE LA MUESTR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8D3D5-C253-4684-A889-525753401E55}" type="slidenum">
              <a:t>22</a:t>
            </a:fld>
          </a:p>
        </p:txBody>
      </p:sp>
    </p:spTree>
  </p:cSld>
  <p:transition>
    <p:random/>
  </p:transition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770400" y="70632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1560" y="1143000"/>
            <a:ext cx="62186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provechamiento de los datos colect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5029200" y="1981080"/>
            <a:ext cx="3926160" cy="2184480"/>
            <a:chOff x="5029200" y="1981080"/>
            <a:chExt cx="3926160" cy="2184480"/>
          </a:xfrm>
        </p:grpSpPr>
        <p:sp>
          <p:nvSpPr>
            <p:cNvPr id="206" name=""/>
            <p:cNvSpPr/>
            <p:nvPr/>
          </p:nvSpPr>
          <p:spPr>
            <a:xfrm>
              <a:off x="5029200" y="1981080"/>
              <a:ext cx="3886200" cy="218448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182920" y="2552760"/>
              <a:ext cx="3772440" cy="86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 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descriptivo de los datos: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RESUMEN DE 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2819520" y="4419720"/>
            <a:ext cx="3763080" cy="2057400"/>
            <a:chOff x="2819520" y="4419720"/>
            <a:chExt cx="3763080" cy="2057400"/>
          </a:xfrm>
        </p:grpSpPr>
        <p:sp>
          <p:nvSpPr>
            <p:cNvPr id="209" name=""/>
            <p:cNvSpPr/>
            <p:nvPr/>
          </p:nvSpPr>
          <p:spPr>
            <a:xfrm>
              <a:off x="2819520" y="4419720"/>
              <a:ext cx="3708360" cy="205740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916720" y="4848120"/>
              <a:ext cx="3665880" cy="162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inferencial de los datos: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GENERALIZACIÓN DE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185760" y="2057400"/>
            <a:ext cx="3967200" cy="2133720"/>
            <a:chOff x="185760" y="2057400"/>
            <a:chExt cx="3967200" cy="2133720"/>
          </a:xfrm>
        </p:grpSpPr>
        <p:sp>
          <p:nvSpPr>
            <p:cNvPr id="212" name=""/>
            <p:cNvSpPr/>
            <p:nvPr/>
          </p:nvSpPr>
          <p:spPr>
            <a:xfrm>
              <a:off x="185760" y="2057400"/>
              <a:ext cx="3967200" cy="213372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91240" y="2347920"/>
              <a:ext cx="3737520" cy="162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exploratorio de 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EDA (</a:t>
              </a:r>
              <a:r>
                <a:rPr b="0" i="1" lang="es-ES" sz="1800" spc="-1" strike="noStrike">
                  <a:solidFill>
                    <a:srgbClr val="006699"/>
                  </a:solidFill>
                  <a:latin typeface="Comic Sans MS"/>
                </a:rPr>
                <a:t>Exploring Data Analysis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) :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 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CONTROL DE CALIDAD DE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14" name=""/>
          <p:cNvSpPr/>
          <p:nvPr/>
        </p:nvSpPr>
        <p:spPr>
          <a:xfrm>
            <a:off x="4199040" y="2743200"/>
            <a:ext cx="830160" cy="609480"/>
          </a:xfrm>
          <a:prstGeom prst="rightArrow">
            <a:avLst>
              <a:gd name="adj1" fmla="val 43231"/>
              <a:gd name="adj2" fmla="val 56772"/>
            </a:avLst>
          </a:prstGeom>
          <a:gradFill rotWithShape="0">
            <a:gsLst>
              <a:gs pos="0">
                <a:srgbClr val="f4f8fa"/>
              </a:gs>
              <a:gs pos="50000">
                <a:srgbClr val="006699"/>
              </a:gs>
              <a:gs pos="100000">
                <a:srgbClr val="f4f8fa"/>
              </a:gs>
            </a:gsLst>
            <a:lin ang="5400000"/>
          </a:gra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rot="10800000">
            <a:off x="6594480" y="4176360"/>
            <a:ext cx="1371600" cy="16765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676520"/>
              <a:gd name="textAreaBottom" fmla="*/ 167688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192" stAng="10800000" swAng="5400000"/>
                <a:lnTo>
                  <a:pt x="12825" y="3968"/>
                </a:lnTo>
                <a:lnTo>
                  <a:pt x="12825" y="0"/>
                </a:lnTo>
                <a:lnTo>
                  <a:pt x="21600" y="6079"/>
                </a:lnTo>
                <a:lnTo>
                  <a:pt x="12825" y="12158"/>
                </a:lnTo>
                <a:lnTo>
                  <a:pt x="12825" y="8190"/>
                </a:lnTo>
                <a:lnTo>
                  <a:pt x="12427" y="8190"/>
                </a:lnTo>
                <a:arcTo wR="8205" hR="3970" stAng="16200000" swAng="-5400000"/>
                <a:lnTo>
                  <a:pt x="4222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50000">
                <a:srgbClr val="006699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22827-3875-4D05-9E91-3C5C6F2E3AA3}" type="slidenum">
              <a:t>23</a:t>
            </a:fld>
          </a:p>
        </p:txBody>
      </p:sp>
    </p:spTree>
  </p:cSld>
  <p:transition>
    <p:random/>
  </p:transition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500"/>
                            </p:stCondLst>
                            <p:childTnLst>
                              <p:par>
                                <p:cTn id="534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380880" y="334800"/>
            <a:ext cx="8763120" cy="59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066680" indent="-609480" algn="just">
              <a:lnSpc>
                <a:spcPct val="100000"/>
              </a:lnSpc>
              <a:buClr>
                <a:srgbClr val="d20000"/>
              </a:buClr>
              <a:buFont typeface="Comic Sans MS"/>
              <a:buAutoNum type="romanUcPeriod" startAt="3"/>
              <a:tabLst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HERRAMIENTAS PARA EL ANALISI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E INTERPRETACION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3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3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cc"/>
                </a:solidFill>
                <a:latin typeface="Times New Roman"/>
              </a:rPr>
              <a:t>•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“caja de herramientas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•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El problema de 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selección de un método estadístico y el tamaño de muestra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 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 Problema “complicado”, tema poco desarrollado en la literatur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Times New Roman"/>
              </a:rPr>
              <a:t>• </a:t>
            </a:r>
            <a:r>
              <a:rPr b="0" lang="es-MX" sz="2000" spc="-1" strike="noStrike">
                <a:solidFill>
                  <a:srgbClr val="d20000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d20000"/>
                </a:solidFill>
                <a:latin typeface="Comic Sans MS"/>
              </a:rPr>
              <a:t> 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Factores de selec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  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Resultados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Número de 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Tipo de los dat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D6888-0F99-4455-9128-AAE2425FB7AF}" type="slidenum">
              <a:t>24</a:t>
            </a:fld>
          </a:p>
        </p:txBody>
      </p:sp>
    </p:spTree>
  </p:cSld>
  <p:transition spd="slow">
    <p:pull dir="d"/>
  </p:transition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324000" y="812880"/>
            <a:ext cx="7924680" cy="44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I.  HERRAMIENTAS PARA EL ANALISIS E INTERPRETACION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d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Definición de la Estadístic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njunto de métodos que tienen como objetivo, “juntar” y analizar los datos numéricos. DAGNEILLE [1998]. Tiene un rol esencial en las diferentes disciplinas científica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d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La Estadística Aplicad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levar la estadística “a la puerta de las personas que están en la obligación de utilizar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A4981-4B70-406A-B2AF-3427717FBEA3}" type="slidenum">
              <a:t>25</a:t>
            </a:fld>
          </a:p>
        </p:txBody>
      </p:sp>
    </p:spTree>
  </p:cSld>
  <p:transition spd="med">
    <p:zoom dir="in"/>
  </p:transition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0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066680" y="2425680"/>
            <a:ext cx="228600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COLECTA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057400" y="3568680"/>
            <a:ext cx="380880" cy="685800"/>
          </a:xfrm>
          <a:prstGeom prst="downArrow">
            <a:avLst>
              <a:gd name="adj1" fmla="val 50000"/>
              <a:gd name="adj2" fmla="val 45014"/>
            </a:avLst>
          </a:prstGeom>
          <a:solidFill>
            <a:srgbClr val="ff99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914400" y="4330800"/>
            <a:ext cx="25146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ANALISIS ESTADISTIC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495680" y="2422440"/>
            <a:ext cx="2286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429000" y="251460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429000" y="304812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72000" y="4297320"/>
            <a:ext cx="46483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Descriptiv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Inferencial (Métodos estadísticos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505320" y="4406760"/>
            <a:ext cx="1066680" cy="241560"/>
          </a:xfrm>
          <a:prstGeom prst="rightArrow">
            <a:avLst>
              <a:gd name="adj1" fmla="val 50000"/>
              <a:gd name="adj2" fmla="val 110395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505320" y="4863960"/>
            <a:ext cx="1066680" cy="241560"/>
          </a:xfrm>
          <a:prstGeom prst="rightArrow">
            <a:avLst>
              <a:gd name="adj1" fmla="val 50000"/>
              <a:gd name="adj2" fmla="val 110395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914400"/>
            <a:ext cx="82296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  </a:t>
            </a: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El Estudio Estadístico: Se descomponen en 2 fas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FB526-C81E-4DFA-9091-55186E19DE71}" type="slidenum">
              <a:t>26</a:t>
            </a:fld>
          </a:p>
        </p:txBody>
      </p:sp>
    </p:spTree>
  </p:cSld>
  <p:transition spd="med">
    <p:split dir="in" orient="vert"/>
  </p:transition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0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500"/>
                            </p:stCondLst>
                            <p:childTnLst>
                              <p:par>
                                <p:cTn id="5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1000"/>
                            </p:stCondLst>
                            <p:childTnLst>
                              <p:par>
                                <p:cTn id="6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1500"/>
                            </p:stCondLst>
                            <p:childTnLst>
                              <p:par>
                                <p:cTn id="60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0" dur="3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500"/>
                            </p:stCondLst>
                            <p:childTnLst>
                              <p:par>
                                <p:cTn id="61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1500"/>
                            </p:stCondLst>
                            <p:childTnLst>
                              <p:par>
                                <p:cTn id="6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2000"/>
                            </p:stCondLst>
                            <p:childTnLst>
                              <p:par>
                                <p:cTn id="63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523880" y="15228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imes New Roman"/>
              </a:rPr>
              <a:t>TRATAMIENTO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380880" y="1143000"/>
            <a:ext cx="8610840" cy="5562720"/>
            <a:chOff x="380880" y="1143000"/>
            <a:chExt cx="8610840" cy="5562720"/>
          </a:xfrm>
        </p:grpSpPr>
        <p:sp>
          <p:nvSpPr>
            <p:cNvPr id="230" name=""/>
            <p:cNvSpPr/>
            <p:nvPr/>
          </p:nvSpPr>
          <p:spPr>
            <a:xfrm>
              <a:off x="380880" y="1143000"/>
              <a:ext cx="8610840" cy="5562720"/>
            </a:xfrm>
            <a:prstGeom prst="cube">
              <a:avLst>
                <a:gd name="adj" fmla="val 8925"/>
              </a:avLst>
            </a:prstGeom>
            <a:solidFill>
              <a:srgbClr val="ffcc66"/>
            </a:solidFill>
            <a:ln w="93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80880" y="1143000"/>
              <a:ext cx="8610840" cy="492120"/>
            </a:xfrm>
            <a:prstGeom prst="parallelogram">
              <a:avLst>
                <a:gd name="adj" fmla="val -84044"/>
              </a:avLst>
            </a:prstGeom>
            <a:gradFill rotWithShape="0">
              <a:gsLst>
                <a:gs pos="0">
                  <a:srgbClr val="5f5f5f"/>
                </a:gs>
                <a:gs pos="100000">
                  <a:srgbClr val="bebebe"/>
                </a:gs>
              </a:gsLst>
              <a:lin ang="8100000"/>
            </a:gra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2590920" y="5335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stadística - Herramient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495680" y="1600200"/>
            <a:ext cx="0" cy="5105520"/>
          </a:xfrm>
          <a:prstGeom prst="line">
            <a:avLst/>
          </a:prstGeom>
          <a:ln w="381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66680" y="2362320"/>
            <a:ext cx="2667240" cy="11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Estadística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Descriptiva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029200" y="2293920"/>
            <a:ext cx="2666880" cy="11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Estadística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Inferencial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838080" y="4191120"/>
            <a:ext cx="304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5f5f5f"/>
                </a:solidFill>
                <a:latin typeface="Times New Roman"/>
              </a:rPr>
              <a:t>RESUMIR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0" y="4191120"/>
            <a:ext cx="380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5f5f5f"/>
                </a:solidFill>
                <a:latin typeface="Times New Roman"/>
              </a:rPr>
              <a:t>GENERALIZAR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495680" y="594360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105520" y="2743200"/>
            <a:ext cx="26668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115cd7"/>
                </a:solidFill>
                <a:latin typeface="Times New Roman"/>
              </a:rPr>
              <a:t>Estimació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105520" y="4952880"/>
            <a:ext cx="26668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115cd7"/>
                </a:solidFill>
                <a:latin typeface="Times New Roman"/>
              </a:rPr>
              <a:t>Test de Hipótesi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80880" y="3276720"/>
            <a:ext cx="411480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80880" y="5029200"/>
            <a:ext cx="411480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438280" y="1600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600200" y="335268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990720" y="1981080"/>
            <a:ext cx="3047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838080" y="556272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24080" y="335268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495680" y="243828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495680" y="327672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876920" y="188928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724280" y="24382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876920" y="438768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800600" y="524196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800600" y="60040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1980720" y="3581280"/>
            <a:ext cx="838080" cy="53316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160"/>
              <a:gd name="textAreaBottom" fmla="*/ 399960 h 5331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754617"/>
              </a:gs>
              <a:gs pos="50000">
                <a:srgbClr val="ff9933"/>
              </a:gs>
              <a:gs pos="100000">
                <a:srgbClr val="754617"/>
              </a:gs>
            </a:gsLst>
            <a:lin ang="540000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495680" y="502920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7200" y="18288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743200" y="34290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-152280" y="3505320"/>
            <a:ext cx="21333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514600" y="18288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295280" y="350532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Mix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5029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124080" y="5029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743200" y="510552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-152280" y="5181480"/>
            <a:ext cx="21333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295280" y="518148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Mix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rot="5400000">
            <a:off x="5943600" y="3581280"/>
            <a:ext cx="838080" cy="53352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754617"/>
              </a:gs>
              <a:gs pos="50000">
                <a:srgbClr val="ff9933"/>
              </a:gs>
              <a:gs pos="100000">
                <a:srgbClr val="754617"/>
              </a:gs>
            </a:gsLst>
            <a:lin ang="540000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838080" y="365760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724280" y="35053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495680" y="4114800"/>
            <a:ext cx="403884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4DB68-2F95-47F9-BE04-4CD131E2891D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fill="hold">
                            <p:stCondLst>
                              <p:cond delay="500"/>
                            </p:stCondLst>
                            <p:childTnLst>
                              <p:par>
                                <p:cTn id="6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500"/>
                            </p:stCondLst>
                            <p:childTnLst>
                              <p:par>
                                <p:cTn id="6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66" fill="hold">
                            <p:stCondLst>
                              <p:cond delay="1000"/>
                            </p:stCondLst>
                            <p:childTnLst>
                              <p:par>
                                <p:cTn id="6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500"/>
                            </p:stCondLst>
                            <p:childTnLst>
                              <p:par>
                                <p:cTn id="6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500"/>
                            </p:stCondLst>
                            <p:childTnLst>
                              <p:par>
                                <p:cTn id="6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500"/>
                            </p:stCondLst>
                            <p:childTnLst>
                              <p:par>
                                <p:cTn id="7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fill="hold">
                            <p:stCondLst>
                              <p:cond delay="1000"/>
                            </p:stCondLst>
                            <p:childTnLst>
                              <p:par>
                                <p:cTn id="7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500"/>
                            </p:stCondLst>
                            <p:childTnLst>
                              <p:par>
                                <p:cTn id="7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1000"/>
                            </p:stCondLst>
                            <p:childTnLst>
                              <p:par>
                                <p:cTn id="7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fill="hold">
                            <p:stCondLst>
                              <p:cond delay="1500"/>
                            </p:stCondLst>
                            <p:childTnLst>
                              <p:par>
                                <p:cTn id="7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fill="hold">
                            <p:stCondLst>
                              <p:cond delay="500"/>
                            </p:stCondLst>
                            <p:childTnLst>
                              <p:par>
                                <p:cTn id="7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fill="hold">
                            <p:stCondLst>
                              <p:cond delay="1000"/>
                            </p:stCondLst>
                            <p:childTnLst>
                              <p:par>
                                <p:cTn id="7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500"/>
                            </p:stCondLst>
                            <p:childTnLst>
                              <p:par>
                                <p:cTn id="7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fill="hold">
                            <p:stCondLst>
                              <p:cond delay="1000"/>
                            </p:stCondLst>
                            <p:childTnLst>
                              <p:par>
                                <p:cTn id="7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fill="hold">
                            <p:stCondLst>
                              <p:cond delay="500"/>
                            </p:stCondLst>
                            <p:childTnLst>
                              <p:par>
                                <p:cTn id="7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fill="hold">
                            <p:stCondLst>
                              <p:cond delay="1000"/>
                            </p:stCondLst>
                            <p:childTnLst>
                              <p:par>
                                <p:cTn id="7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fill="hold">
                            <p:stCondLst>
                              <p:cond delay="500"/>
                            </p:stCondLst>
                            <p:childTnLst>
                              <p:par>
                                <p:cTn id="8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fill="hold">
                            <p:stCondLst>
                              <p:cond delay="1000"/>
                            </p:stCondLst>
                            <p:childTnLst>
                              <p:par>
                                <p:cTn id="8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fill="hold">
                            <p:stCondLst>
                              <p:cond delay="500"/>
                            </p:stCondLst>
                            <p:childTnLst>
                              <p:par>
                                <p:cTn id="8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2" fill="hold">
                            <p:stCondLst>
                              <p:cond delay="1000"/>
                            </p:stCondLst>
                            <p:childTnLst>
                              <p:par>
                                <p:cTn id="8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7" fill="hold">
                            <p:stCondLst>
                              <p:cond delay="1500"/>
                            </p:stCondLst>
                            <p:childTnLst>
                              <p:par>
                                <p:cTn id="8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fill="hold">
                            <p:stCondLst>
                              <p:cond delay="2000"/>
                            </p:stCondLst>
                            <p:childTnLst>
                              <p:par>
                                <p:cTn id="8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fill="hold">
                            <p:stCondLst>
                              <p:cond delay="500"/>
                            </p:stCondLst>
                            <p:childTnLst>
                              <p:par>
                                <p:cTn id="8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fill="hold">
                            <p:stCondLst>
                              <p:cond delay="1000"/>
                            </p:stCondLst>
                            <p:childTnLst>
                              <p:par>
                                <p:cTn id="8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fill="hold">
                            <p:stCondLst>
                              <p:cond delay="1500"/>
                            </p:stCondLst>
                            <p:childTnLst>
                              <p:par>
                                <p:cTn id="8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fill="hold">
                            <p:stCondLst>
                              <p:cond delay="2000"/>
                            </p:stCondLst>
                            <p:childTnLst>
                              <p:par>
                                <p:cTn id="8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1" name=""/>
          <p:cNvGrpSpPr/>
          <p:nvPr/>
        </p:nvGrpSpPr>
        <p:grpSpPr>
          <a:xfrm>
            <a:off x="838080" y="1814400"/>
            <a:ext cx="7848360" cy="4662360"/>
            <a:chOff x="838080" y="1814400"/>
            <a:chExt cx="7848360" cy="4662360"/>
          </a:xfrm>
        </p:grpSpPr>
        <p:grpSp>
          <p:nvGrpSpPr>
            <p:cNvPr id="272" name=""/>
            <p:cNvGrpSpPr/>
            <p:nvPr/>
          </p:nvGrpSpPr>
          <p:grpSpPr>
            <a:xfrm>
              <a:off x="843840" y="1819080"/>
              <a:ext cx="7835400" cy="4651920"/>
              <a:chOff x="843840" y="1819080"/>
              <a:chExt cx="7835400" cy="4651920"/>
            </a:xfrm>
          </p:grpSpPr>
          <p:grpSp>
            <p:nvGrpSpPr>
              <p:cNvPr id="273" name=""/>
              <p:cNvGrpSpPr/>
              <p:nvPr/>
            </p:nvGrpSpPr>
            <p:grpSpPr>
              <a:xfrm>
                <a:off x="843840" y="1819080"/>
                <a:ext cx="1958400" cy="676080"/>
                <a:chOff x="843840" y="1819080"/>
                <a:chExt cx="1958400" cy="67608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90108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 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84384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6" name=""/>
              <p:cNvGrpSpPr/>
              <p:nvPr/>
            </p:nvGrpSpPr>
            <p:grpSpPr>
              <a:xfrm>
                <a:off x="2802600" y="1819080"/>
                <a:ext cx="1958400" cy="676080"/>
                <a:chOff x="2802600" y="1819080"/>
                <a:chExt cx="1958400" cy="676080"/>
              </a:xfrm>
            </p:grpSpPr>
            <p:sp>
              <p:nvSpPr>
                <p:cNvPr id="277" name=""/>
                <p:cNvSpPr/>
                <p:nvPr/>
              </p:nvSpPr>
              <p:spPr>
                <a:xfrm>
                  <a:off x="285984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280260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9" name=""/>
              <p:cNvGrpSpPr/>
              <p:nvPr/>
            </p:nvGrpSpPr>
            <p:grpSpPr>
              <a:xfrm>
                <a:off x="4761720" y="1819080"/>
                <a:ext cx="1958400" cy="676080"/>
                <a:chOff x="4761720" y="1819080"/>
                <a:chExt cx="1958400" cy="676080"/>
              </a:xfrm>
            </p:grpSpPr>
            <p:sp>
              <p:nvSpPr>
                <p:cNvPr id="280" name=""/>
                <p:cNvSpPr/>
                <p:nvPr/>
              </p:nvSpPr>
              <p:spPr>
                <a:xfrm>
                  <a:off x="481896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B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476172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2" name=""/>
              <p:cNvGrpSpPr/>
              <p:nvPr/>
            </p:nvGrpSpPr>
            <p:grpSpPr>
              <a:xfrm>
                <a:off x="6720840" y="1819080"/>
                <a:ext cx="1958400" cy="676080"/>
                <a:chOff x="6720840" y="1819080"/>
                <a:chExt cx="1958400" cy="676080"/>
              </a:xfrm>
            </p:grpSpPr>
            <p:sp>
              <p:nvSpPr>
                <p:cNvPr id="283" name=""/>
                <p:cNvSpPr/>
                <p:nvPr/>
              </p:nvSpPr>
              <p:spPr>
                <a:xfrm>
                  <a:off x="677808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Mult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672084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5" name=""/>
              <p:cNvGrpSpPr/>
              <p:nvPr/>
            </p:nvGrpSpPr>
            <p:grpSpPr>
              <a:xfrm>
                <a:off x="843840" y="2495520"/>
                <a:ext cx="1958400" cy="1272960"/>
                <a:chOff x="843840" y="2495520"/>
                <a:chExt cx="1958400" cy="1272960"/>
              </a:xfrm>
            </p:grpSpPr>
            <p:sp>
              <p:nvSpPr>
                <p:cNvPr id="286" name=""/>
                <p:cNvSpPr/>
                <p:nvPr/>
              </p:nvSpPr>
              <p:spPr>
                <a:xfrm>
                  <a:off x="90108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cuantitativ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84384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8" name=""/>
              <p:cNvGrpSpPr/>
              <p:nvPr/>
            </p:nvGrpSpPr>
            <p:grpSpPr>
              <a:xfrm>
                <a:off x="2802600" y="2495520"/>
                <a:ext cx="1958400" cy="1272960"/>
                <a:chOff x="2802600" y="2495520"/>
                <a:chExt cx="1958400" cy="1272960"/>
              </a:xfrm>
            </p:grpSpPr>
            <p:sp>
              <p:nvSpPr>
                <p:cNvPr id="289" name=""/>
                <p:cNvSpPr/>
                <p:nvPr/>
              </p:nvSpPr>
              <p:spPr>
                <a:xfrm>
                  <a:off x="285984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Box Plot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280260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1" name=""/>
              <p:cNvGrpSpPr/>
              <p:nvPr/>
            </p:nvGrpSpPr>
            <p:grpSpPr>
              <a:xfrm>
                <a:off x="4761720" y="2495520"/>
                <a:ext cx="1958400" cy="1272960"/>
                <a:chOff x="4761720" y="2495520"/>
                <a:chExt cx="1958400" cy="1272960"/>
              </a:xfrm>
            </p:grpSpPr>
            <p:sp>
              <p:nvSpPr>
                <p:cNvPr id="292" name=""/>
                <p:cNvSpPr/>
                <p:nvPr/>
              </p:nvSpPr>
              <p:spPr>
                <a:xfrm>
                  <a:off x="481896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Scatter Plot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476172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4" name=""/>
              <p:cNvGrpSpPr/>
              <p:nvPr/>
            </p:nvGrpSpPr>
            <p:grpSpPr>
              <a:xfrm>
                <a:off x="6720840" y="2495520"/>
                <a:ext cx="1958400" cy="1272960"/>
                <a:chOff x="6720840" y="2495520"/>
                <a:chExt cx="1958400" cy="127296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677808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iagrama de individuos ACP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672084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7" name=""/>
              <p:cNvGrpSpPr/>
              <p:nvPr/>
            </p:nvGrpSpPr>
            <p:grpSpPr>
              <a:xfrm>
                <a:off x="843840" y="3768840"/>
                <a:ext cx="1958400" cy="1061280"/>
                <a:chOff x="843840" y="3768840"/>
                <a:chExt cx="1958400" cy="1061280"/>
              </a:xfrm>
            </p:grpSpPr>
            <p:sp>
              <p:nvSpPr>
                <p:cNvPr id="298" name=""/>
                <p:cNvSpPr/>
                <p:nvPr/>
              </p:nvSpPr>
              <p:spPr>
                <a:xfrm>
                  <a:off x="90108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cualitativ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84384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0" name=""/>
              <p:cNvGrpSpPr/>
              <p:nvPr/>
            </p:nvGrpSpPr>
            <p:grpSpPr>
              <a:xfrm>
                <a:off x="2802600" y="3768840"/>
                <a:ext cx="1958400" cy="1061280"/>
                <a:chOff x="2802600" y="3768840"/>
                <a:chExt cx="1958400" cy="1061280"/>
              </a:xfrm>
            </p:grpSpPr>
            <p:sp>
              <p:nvSpPr>
                <p:cNvPr id="301" name=""/>
                <p:cNvSpPr/>
                <p:nvPr/>
              </p:nvSpPr>
              <p:spPr>
                <a:xfrm>
                  <a:off x="285984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280260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3" name=""/>
              <p:cNvGrpSpPr/>
              <p:nvPr/>
            </p:nvGrpSpPr>
            <p:grpSpPr>
              <a:xfrm>
                <a:off x="4761720" y="3768840"/>
                <a:ext cx="1958400" cy="1061280"/>
                <a:chOff x="4761720" y="3768840"/>
                <a:chExt cx="1958400" cy="1061280"/>
              </a:xfrm>
            </p:grpSpPr>
            <p:sp>
              <p:nvSpPr>
                <p:cNvPr id="304" name=""/>
                <p:cNvSpPr/>
                <p:nvPr/>
              </p:nvSpPr>
              <p:spPr>
                <a:xfrm>
                  <a:off x="481896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476172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6" name=""/>
              <p:cNvGrpSpPr/>
              <p:nvPr/>
            </p:nvGrpSpPr>
            <p:grpSpPr>
              <a:xfrm>
                <a:off x="6720840" y="3768840"/>
                <a:ext cx="1958400" cy="1061280"/>
                <a:chOff x="6720840" y="3768840"/>
                <a:chExt cx="1958400" cy="1061280"/>
              </a:xfrm>
            </p:grpSpPr>
            <p:sp>
              <p:nvSpPr>
                <p:cNvPr id="307" name=""/>
                <p:cNvSpPr/>
                <p:nvPr/>
              </p:nvSpPr>
              <p:spPr>
                <a:xfrm>
                  <a:off x="677808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672084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9" name=""/>
              <p:cNvGrpSpPr/>
              <p:nvPr/>
            </p:nvGrpSpPr>
            <p:grpSpPr>
              <a:xfrm>
                <a:off x="843840" y="4830480"/>
                <a:ext cx="1958400" cy="1640520"/>
                <a:chOff x="843840" y="4830480"/>
                <a:chExt cx="1958400" cy="1640520"/>
              </a:xfrm>
            </p:grpSpPr>
            <p:sp>
              <p:nvSpPr>
                <p:cNvPr id="310" name=""/>
                <p:cNvSpPr/>
                <p:nvPr/>
              </p:nvSpPr>
              <p:spPr>
                <a:xfrm>
                  <a:off x="90108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mixt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84384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2" name=""/>
              <p:cNvGrpSpPr/>
              <p:nvPr/>
            </p:nvGrpSpPr>
            <p:grpSpPr>
              <a:xfrm>
                <a:off x="2802600" y="4830480"/>
                <a:ext cx="1958400" cy="1640520"/>
                <a:chOff x="2802600" y="4830480"/>
                <a:chExt cx="1958400" cy="1640520"/>
              </a:xfrm>
            </p:grpSpPr>
            <p:sp>
              <p:nvSpPr>
                <p:cNvPr id="313" name=""/>
                <p:cNvSpPr/>
                <p:nvPr/>
              </p:nvSpPr>
              <p:spPr>
                <a:xfrm>
                  <a:off x="285984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-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280260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5" name=""/>
              <p:cNvGrpSpPr/>
              <p:nvPr/>
            </p:nvGrpSpPr>
            <p:grpSpPr>
              <a:xfrm>
                <a:off x="4761720" y="4830480"/>
                <a:ext cx="1958400" cy="1640520"/>
                <a:chOff x="4761720" y="4830480"/>
                <a:chExt cx="1958400" cy="1640520"/>
              </a:xfrm>
            </p:grpSpPr>
            <p:sp>
              <p:nvSpPr>
                <p:cNvPr id="316" name=""/>
                <p:cNvSpPr/>
                <p:nvPr/>
              </p:nvSpPr>
              <p:spPr>
                <a:xfrm>
                  <a:off x="481896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Box Plot</a:t>
                  </a: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 : Cuantitativa-nomi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Scatter Plot</a:t>
                  </a: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: Cuantitativa - Ordi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476172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8" name=""/>
              <p:cNvGrpSpPr/>
              <p:nvPr/>
            </p:nvGrpSpPr>
            <p:grpSpPr>
              <a:xfrm>
                <a:off x="6720840" y="4830480"/>
                <a:ext cx="1958400" cy="1640520"/>
                <a:chOff x="6720840" y="4830480"/>
                <a:chExt cx="1958400" cy="1640520"/>
              </a:xfrm>
            </p:grpSpPr>
            <p:sp>
              <p:nvSpPr>
                <p:cNvPr id="319" name=""/>
                <p:cNvSpPr/>
                <p:nvPr/>
              </p:nvSpPr>
              <p:spPr>
                <a:xfrm>
                  <a:off x="677808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ACP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AFC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672084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21" name=""/>
            <p:cNvSpPr/>
            <p:nvPr/>
          </p:nvSpPr>
          <p:spPr>
            <a:xfrm>
              <a:off x="838080" y="1814400"/>
              <a:ext cx="7848360" cy="4662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22" name=""/>
          <p:cNvSpPr/>
          <p:nvPr/>
        </p:nvSpPr>
        <p:spPr>
          <a:xfrm>
            <a:off x="682200" y="1152360"/>
            <a:ext cx="491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exploratorio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FA3DC-78F7-4ACD-A153-B20B735BAEB2}" type="slidenum">
              <a:t>28</a:t>
            </a:fld>
          </a:p>
        </p:txBody>
      </p:sp>
    </p:spTree>
  </p:cSld>
  <p:transition>
    <p:random/>
  </p:transition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694080" y="1152360"/>
            <a:ext cx="472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descriptivo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838080" y="1814400"/>
            <a:ext cx="7848360" cy="4662360"/>
            <a:chOff x="838080" y="1814400"/>
            <a:chExt cx="7848360" cy="4662360"/>
          </a:xfrm>
        </p:grpSpPr>
        <p:grpSp>
          <p:nvGrpSpPr>
            <p:cNvPr id="327" name=""/>
            <p:cNvGrpSpPr/>
            <p:nvPr/>
          </p:nvGrpSpPr>
          <p:grpSpPr>
            <a:xfrm>
              <a:off x="838080" y="1814400"/>
              <a:ext cx="7848360" cy="4662360"/>
              <a:chOff x="838080" y="1814400"/>
              <a:chExt cx="7848360" cy="4662360"/>
            </a:xfrm>
          </p:grpSpPr>
          <p:grpSp>
            <p:nvGrpSpPr>
              <p:cNvPr id="328" name=""/>
              <p:cNvGrpSpPr/>
              <p:nvPr/>
            </p:nvGrpSpPr>
            <p:grpSpPr>
              <a:xfrm>
                <a:off x="843840" y="1819080"/>
                <a:ext cx="7835400" cy="4651920"/>
                <a:chOff x="843840" y="1819080"/>
                <a:chExt cx="7835400" cy="4651920"/>
              </a:xfrm>
            </p:grpSpPr>
            <p:grpSp>
              <p:nvGrpSpPr>
                <p:cNvPr id="329" name=""/>
                <p:cNvGrpSpPr/>
                <p:nvPr/>
              </p:nvGrpSpPr>
              <p:grpSpPr>
                <a:xfrm>
                  <a:off x="843840" y="1819080"/>
                  <a:ext cx="1958400" cy="676080"/>
                  <a:chOff x="843840" y="1819080"/>
                  <a:chExt cx="1958400" cy="676080"/>
                </a:xfrm>
              </p:grpSpPr>
              <p:sp>
                <p:nvSpPr>
                  <p:cNvPr id="330" name=""/>
                  <p:cNvSpPr/>
                  <p:nvPr/>
                </p:nvSpPr>
                <p:spPr>
                  <a:xfrm>
                    <a:off x="90108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 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1" name=""/>
                  <p:cNvSpPr/>
                  <p:nvPr/>
                </p:nvSpPr>
                <p:spPr>
                  <a:xfrm>
                    <a:off x="84384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2" name=""/>
                <p:cNvGrpSpPr/>
                <p:nvPr/>
              </p:nvGrpSpPr>
              <p:grpSpPr>
                <a:xfrm>
                  <a:off x="2802600" y="1819080"/>
                  <a:ext cx="1958400" cy="676080"/>
                  <a:chOff x="2802600" y="1819080"/>
                  <a:chExt cx="1958400" cy="676080"/>
                </a:xfrm>
              </p:grpSpPr>
              <p:sp>
                <p:nvSpPr>
                  <p:cNvPr id="333" name=""/>
                  <p:cNvSpPr/>
                  <p:nvPr/>
                </p:nvSpPr>
                <p:spPr>
                  <a:xfrm>
                    <a:off x="285984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Un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4" name=""/>
                  <p:cNvSpPr/>
                  <p:nvPr/>
                </p:nvSpPr>
                <p:spPr>
                  <a:xfrm>
                    <a:off x="280260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5" name=""/>
                <p:cNvGrpSpPr/>
                <p:nvPr/>
              </p:nvGrpSpPr>
              <p:grpSpPr>
                <a:xfrm>
                  <a:off x="4761720" y="1819080"/>
                  <a:ext cx="1958400" cy="676080"/>
                  <a:chOff x="4761720" y="1819080"/>
                  <a:chExt cx="1958400" cy="676080"/>
                </a:xfrm>
              </p:grpSpPr>
              <p:sp>
                <p:nvSpPr>
                  <p:cNvPr id="336" name=""/>
                  <p:cNvSpPr/>
                  <p:nvPr/>
                </p:nvSpPr>
                <p:spPr>
                  <a:xfrm>
                    <a:off x="481896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B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7" name=""/>
                  <p:cNvSpPr/>
                  <p:nvPr/>
                </p:nvSpPr>
                <p:spPr>
                  <a:xfrm>
                    <a:off x="476172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8" name=""/>
                <p:cNvGrpSpPr/>
                <p:nvPr/>
              </p:nvGrpSpPr>
              <p:grpSpPr>
                <a:xfrm>
                  <a:off x="6720840" y="1819080"/>
                  <a:ext cx="1958400" cy="676080"/>
                  <a:chOff x="6720840" y="1819080"/>
                  <a:chExt cx="1958400" cy="676080"/>
                </a:xfrm>
              </p:grpSpPr>
              <p:sp>
                <p:nvSpPr>
                  <p:cNvPr id="339" name=""/>
                  <p:cNvSpPr/>
                  <p:nvPr/>
                </p:nvSpPr>
                <p:spPr>
                  <a:xfrm>
                    <a:off x="677808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Mult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0" name=""/>
                  <p:cNvSpPr/>
                  <p:nvPr/>
                </p:nvSpPr>
                <p:spPr>
                  <a:xfrm>
                    <a:off x="672084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1" name=""/>
                <p:cNvGrpSpPr/>
                <p:nvPr/>
              </p:nvGrpSpPr>
              <p:grpSpPr>
                <a:xfrm>
                  <a:off x="843840" y="2495520"/>
                  <a:ext cx="1958400" cy="1272960"/>
                  <a:chOff x="843840" y="2495520"/>
                  <a:chExt cx="1958400" cy="1272960"/>
                </a:xfrm>
              </p:grpSpPr>
              <p:sp>
                <p:nvSpPr>
                  <p:cNvPr id="342" name=""/>
                  <p:cNvSpPr/>
                  <p:nvPr/>
                </p:nvSpPr>
                <p:spPr>
                  <a:xfrm>
                    <a:off x="90108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Datos cuantitativos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3" name=""/>
                  <p:cNvSpPr/>
                  <p:nvPr/>
                </p:nvSpPr>
                <p:spPr>
                  <a:xfrm>
                    <a:off x="84384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4" name=""/>
                <p:cNvGrpSpPr/>
                <p:nvPr/>
              </p:nvGrpSpPr>
              <p:grpSpPr>
                <a:xfrm>
                  <a:off x="2802600" y="2495520"/>
                  <a:ext cx="1958400" cy="1272960"/>
                  <a:chOff x="2802600" y="2495520"/>
                  <a:chExt cx="1958400" cy="1272960"/>
                </a:xfrm>
              </p:grpSpPr>
              <p:sp>
                <p:nvSpPr>
                  <p:cNvPr id="345" name=""/>
                  <p:cNvSpPr/>
                  <p:nvPr/>
                </p:nvSpPr>
                <p:spPr>
                  <a:xfrm>
                    <a:off x="285984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Parametros de posición, dispersión, form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6" name=""/>
                  <p:cNvSpPr/>
                  <p:nvPr/>
                </p:nvSpPr>
                <p:spPr>
                  <a:xfrm>
                    <a:off x="280260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7" name=""/>
                <p:cNvGrpSpPr/>
                <p:nvPr/>
              </p:nvGrpSpPr>
              <p:grpSpPr>
                <a:xfrm>
                  <a:off x="4761720" y="2495520"/>
                  <a:ext cx="1958400" cy="1272960"/>
                  <a:chOff x="4761720" y="2495520"/>
                  <a:chExt cx="1958400" cy="1272960"/>
                </a:xfrm>
              </p:grpSpPr>
              <p:sp>
                <p:nvSpPr>
                  <p:cNvPr id="348" name=""/>
                  <p:cNvSpPr/>
                  <p:nvPr/>
                </p:nvSpPr>
                <p:spPr>
                  <a:xfrm>
                    <a:off x="481896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, 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Covarianz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Correlación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Regresión </a:t>
                    </a:r>
                    <a:r>
                      <a:rPr b="0" i="1" lang="en-U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  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9" name=""/>
                  <p:cNvSpPr/>
                  <p:nvPr/>
                </p:nvSpPr>
                <p:spPr>
                  <a:xfrm>
                    <a:off x="476172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0" name=""/>
                <p:cNvGrpSpPr/>
                <p:nvPr/>
              </p:nvGrpSpPr>
              <p:grpSpPr>
                <a:xfrm>
                  <a:off x="6720840" y="2495520"/>
                  <a:ext cx="1958400" cy="1272960"/>
                  <a:chOff x="6720840" y="2495520"/>
                  <a:chExt cx="1958400" cy="1272960"/>
                </a:xfrm>
              </p:grpSpPr>
              <p:sp>
                <p:nvSpPr>
                  <p:cNvPr id="351" name=""/>
                  <p:cNvSpPr/>
                  <p:nvPr/>
                </p:nvSpPr>
                <p:spPr>
                  <a:xfrm>
                    <a:off x="677808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ACP</a:t>
                    </a:r>
                    <a:r>
                      <a:rPr b="0" lang="es-BO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, CLUSTER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2" name=""/>
                  <p:cNvSpPr/>
                  <p:nvPr/>
                </p:nvSpPr>
                <p:spPr>
                  <a:xfrm>
                    <a:off x="672084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3" name=""/>
                <p:cNvGrpSpPr/>
                <p:nvPr/>
              </p:nvGrpSpPr>
              <p:grpSpPr>
                <a:xfrm>
                  <a:off x="843840" y="3768840"/>
                  <a:ext cx="1958400" cy="1061280"/>
                  <a:chOff x="843840" y="3768840"/>
                  <a:chExt cx="1958400" cy="1061280"/>
                </a:xfrm>
              </p:grpSpPr>
              <p:sp>
                <p:nvSpPr>
                  <p:cNvPr id="354" name=""/>
                  <p:cNvSpPr/>
                  <p:nvPr/>
                </p:nvSpPr>
                <p:spPr>
                  <a:xfrm>
                    <a:off x="90108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Datos cualitativos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5" name=""/>
                  <p:cNvSpPr/>
                  <p:nvPr/>
                </p:nvSpPr>
                <p:spPr>
                  <a:xfrm>
                    <a:off x="84384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6" name=""/>
                <p:cNvGrpSpPr/>
                <p:nvPr/>
              </p:nvGrpSpPr>
              <p:grpSpPr>
                <a:xfrm>
                  <a:off x="2802600" y="3768840"/>
                  <a:ext cx="1958400" cy="1061280"/>
                  <a:chOff x="2802600" y="3768840"/>
                  <a:chExt cx="1958400" cy="1061280"/>
                </a:xfrm>
              </p:grpSpPr>
              <p:sp>
                <p:nvSpPr>
                  <p:cNvPr id="357" name=""/>
                  <p:cNvSpPr/>
                  <p:nvPr/>
                </p:nvSpPr>
                <p:spPr>
                  <a:xfrm>
                    <a:off x="285984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8" name=""/>
                  <p:cNvSpPr/>
                  <p:nvPr/>
                </p:nvSpPr>
                <p:spPr>
                  <a:xfrm>
                    <a:off x="280260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9" name=""/>
                <p:cNvGrpSpPr/>
                <p:nvPr/>
              </p:nvGrpSpPr>
              <p:grpSpPr>
                <a:xfrm>
                  <a:off x="4761720" y="3768840"/>
                  <a:ext cx="1958400" cy="1061280"/>
                  <a:chOff x="4761720" y="3768840"/>
                  <a:chExt cx="1958400" cy="1061280"/>
                </a:xfrm>
              </p:grpSpPr>
              <p:sp>
                <p:nvSpPr>
                  <p:cNvPr id="360" name=""/>
                  <p:cNvSpPr/>
                  <p:nvPr/>
                </p:nvSpPr>
                <p:spPr>
                  <a:xfrm>
                    <a:off x="481896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Tablas de frecuenci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1" name=""/>
                  <p:cNvSpPr/>
                  <p:nvPr/>
                </p:nvSpPr>
                <p:spPr>
                  <a:xfrm>
                    <a:off x="476172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2" name=""/>
                <p:cNvGrpSpPr/>
                <p:nvPr/>
              </p:nvGrpSpPr>
              <p:grpSpPr>
                <a:xfrm>
                  <a:off x="6720840" y="3768840"/>
                  <a:ext cx="1958400" cy="1061280"/>
                  <a:chOff x="6720840" y="3768840"/>
                  <a:chExt cx="1958400" cy="1061280"/>
                </a:xfrm>
              </p:grpSpPr>
              <p:sp>
                <p:nvSpPr>
                  <p:cNvPr id="363" name=""/>
                  <p:cNvSpPr/>
                  <p:nvPr/>
                </p:nvSpPr>
                <p:spPr>
                  <a:xfrm>
                    <a:off x="677808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BO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AFC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4" name=""/>
                  <p:cNvSpPr/>
                  <p:nvPr/>
                </p:nvSpPr>
                <p:spPr>
                  <a:xfrm>
                    <a:off x="672084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5" name=""/>
                <p:cNvGrpSpPr/>
                <p:nvPr/>
              </p:nvGrpSpPr>
              <p:grpSpPr>
                <a:xfrm>
                  <a:off x="843840" y="4830480"/>
                  <a:ext cx="1958400" cy="1640520"/>
                  <a:chOff x="843840" y="4830480"/>
                  <a:chExt cx="1958400" cy="1640520"/>
                </a:xfrm>
              </p:grpSpPr>
              <p:sp>
                <p:nvSpPr>
                  <p:cNvPr id="366" name=""/>
                  <p:cNvSpPr/>
                  <p:nvPr/>
                </p:nvSpPr>
                <p:spPr>
                  <a:xfrm>
                    <a:off x="90108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7" name=""/>
                  <p:cNvSpPr/>
                  <p:nvPr/>
                </p:nvSpPr>
                <p:spPr>
                  <a:xfrm>
                    <a:off x="84384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8" name=""/>
                <p:cNvGrpSpPr/>
                <p:nvPr/>
              </p:nvGrpSpPr>
              <p:grpSpPr>
                <a:xfrm>
                  <a:off x="2802600" y="4830480"/>
                  <a:ext cx="1958400" cy="1640520"/>
                  <a:chOff x="2802600" y="4830480"/>
                  <a:chExt cx="1958400" cy="1640520"/>
                </a:xfrm>
              </p:grpSpPr>
              <p:sp>
                <p:nvSpPr>
                  <p:cNvPr id="369" name=""/>
                  <p:cNvSpPr/>
                  <p:nvPr/>
                </p:nvSpPr>
                <p:spPr>
                  <a:xfrm>
                    <a:off x="285984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0" name=""/>
                  <p:cNvSpPr/>
                  <p:nvPr/>
                </p:nvSpPr>
                <p:spPr>
                  <a:xfrm>
                    <a:off x="280260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1" name=""/>
                <p:cNvGrpSpPr/>
                <p:nvPr/>
              </p:nvGrpSpPr>
              <p:grpSpPr>
                <a:xfrm>
                  <a:off x="4761720" y="4830480"/>
                  <a:ext cx="1958400" cy="1640520"/>
                  <a:chOff x="4761720" y="4830480"/>
                  <a:chExt cx="1958400" cy="1640520"/>
                </a:xfrm>
              </p:grpSpPr>
              <p:sp>
                <p:nvSpPr>
                  <p:cNvPr id="372" name=""/>
                  <p:cNvSpPr/>
                  <p:nvPr/>
                </p:nvSpPr>
                <p:spPr>
                  <a:xfrm>
                    <a:off x="481896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3" name=""/>
                  <p:cNvSpPr/>
                  <p:nvPr/>
                </p:nvSpPr>
                <p:spPr>
                  <a:xfrm>
                    <a:off x="476172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4" name=""/>
                <p:cNvGrpSpPr/>
                <p:nvPr/>
              </p:nvGrpSpPr>
              <p:grpSpPr>
                <a:xfrm>
                  <a:off x="6720840" y="4830480"/>
                  <a:ext cx="1958400" cy="1640520"/>
                  <a:chOff x="6720840" y="4830480"/>
                  <a:chExt cx="1958400" cy="1640520"/>
                </a:xfrm>
              </p:grpSpPr>
              <p:sp>
                <p:nvSpPr>
                  <p:cNvPr id="375" name=""/>
                  <p:cNvSpPr/>
                  <p:nvPr/>
                </p:nvSpPr>
                <p:spPr>
                  <a:xfrm>
                    <a:off x="677808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6" name=""/>
                  <p:cNvSpPr/>
                  <p:nvPr/>
                </p:nvSpPr>
                <p:spPr>
                  <a:xfrm>
                    <a:off x="672084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77" name=""/>
              <p:cNvSpPr/>
              <p:nvPr/>
            </p:nvSpPr>
            <p:spPr>
              <a:xfrm>
                <a:off x="838080" y="1814400"/>
                <a:ext cx="7848360" cy="4662360"/>
              </a:xfrm>
              <a:prstGeom prst="rect">
                <a:avLst/>
              </a:prstGeom>
              <a:noFill/>
              <a:ln w="1116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378" name=""/>
            <p:cNvSpPr/>
            <p:nvPr/>
          </p:nvSpPr>
          <p:spPr>
            <a:xfrm>
              <a:off x="2971800" y="3962520"/>
              <a:ext cx="16002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Gráficas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Tablas de frecuencia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ED28C-F9D4-42D0-9D35-6789CFD91EA9}" type="slidenum">
              <a:t>29</a:t>
            </a:fld>
          </a:p>
        </p:txBody>
      </p:sp>
    </p:spTree>
  </p:cSld>
  <p:transition>
    <p:random/>
  </p:transition>
  <p:timing>
    <p:tnLst>
      <p:par>
        <p:cTn id="884" dur="indefinite" restart="never" nodeType="tmRoot">
          <p:childTnLst>
            <p:seq>
              <p:cTn id="885" dur="indefinite" nodeType="mainSeq">
                <p:childTnLst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0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1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826920" y="1276200"/>
            <a:ext cx="7421760" cy="36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d20000"/>
              </a:buClr>
              <a:buFont typeface="Comic Sans MS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INTRODUCCION - OBJE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Presentar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PROBLEMAS EN INVESTIG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mprender las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BASES METODOLÓGICAS PARA EL DISEÑO DE LA INVESTIGACIÓN – MATRIZ MAPIC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mprender el rol de la 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ESTADISTICA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 en la investigación científica (análisis e interpretación de datos)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2CC96-EF09-437C-A40D-DF5ABBA3224A}" type="slidenum">
              <a:t>3</a:t>
            </a:fld>
          </a:p>
        </p:txBody>
      </p:sp>
    </p:spTree>
  </p:cSld>
  <p:transition spd="med">
    <p:zoom dir="in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697320" y="1152360"/>
            <a:ext cx="465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inferencial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838080" y="1814400"/>
            <a:ext cx="7848360" cy="5463000"/>
            <a:chOff x="838080" y="1814400"/>
            <a:chExt cx="7848360" cy="5463000"/>
          </a:xfrm>
        </p:grpSpPr>
        <p:sp>
          <p:nvSpPr>
            <p:cNvPr id="382" name=""/>
            <p:cNvSpPr/>
            <p:nvPr/>
          </p:nvSpPr>
          <p:spPr>
            <a:xfrm>
              <a:off x="2971800" y="5087880"/>
              <a:ext cx="1676520" cy="218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Run test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Wilcoxon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Mann-Whitney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Kruskall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383" name=""/>
            <p:cNvGrpSpPr/>
            <p:nvPr/>
          </p:nvGrpSpPr>
          <p:grpSpPr>
            <a:xfrm>
              <a:off x="838080" y="1814400"/>
              <a:ext cx="7848360" cy="4688640"/>
              <a:chOff x="838080" y="1814400"/>
              <a:chExt cx="7848360" cy="4688640"/>
            </a:xfrm>
          </p:grpSpPr>
          <p:grpSp>
            <p:nvGrpSpPr>
              <p:cNvPr id="384" name=""/>
              <p:cNvGrpSpPr/>
              <p:nvPr/>
            </p:nvGrpSpPr>
            <p:grpSpPr>
              <a:xfrm>
                <a:off x="838080" y="1814400"/>
                <a:ext cx="7848360" cy="4662360"/>
                <a:chOff x="838080" y="1814400"/>
                <a:chExt cx="7848360" cy="4662360"/>
              </a:xfrm>
            </p:grpSpPr>
            <p:grpSp>
              <p:nvGrpSpPr>
                <p:cNvPr id="385" name=""/>
                <p:cNvGrpSpPr/>
                <p:nvPr/>
              </p:nvGrpSpPr>
              <p:grpSpPr>
                <a:xfrm>
                  <a:off x="843840" y="1819080"/>
                  <a:ext cx="7835400" cy="4651920"/>
                  <a:chOff x="843840" y="1819080"/>
                  <a:chExt cx="7835400" cy="4651920"/>
                </a:xfrm>
              </p:grpSpPr>
              <p:grpSp>
                <p:nvGrpSpPr>
                  <p:cNvPr id="386" name=""/>
                  <p:cNvGrpSpPr/>
                  <p:nvPr/>
                </p:nvGrpSpPr>
                <p:grpSpPr>
                  <a:xfrm>
                    <a:off x="843840" y="1819080"/>
                    <a:ext cx="1958400" cy="676080"/>
                    <a:chOff x="843840" y="1819080"/>
                    <a:chExt cx="1958400" cy="676080"/>
                  </a:xfrm>
                </p:grpSpPr>
                <p:sp>
                  <p:nvSpPr>
                    <p:cNvPr id="387" name=""/>
                    <p:cNvSpPr/>
                    <p:nvPr/>
                  </p:nvSpPr>
                  <p:spPr>
                    <a:xfrm>
                      <a:off x="90108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8" name=""/>
                    <p:cNvSpPr/>
                    <p:nvPr/>
                  </p:nvSpPr>
                  <p:spPr>
                    <a:xfrm>
                      <a:off x="84384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89" name=""/>
                  <p:cNvGrpSpPr/>
                  <p:nvPr/>
                </p:nvGrpSpPr>
                <p:grpSpPr>
                  <a:xfrm>
                    <a:off x="2802600" y="1819080"/>
                    <a:ext cx="1958400" cy="676080"/>
                    <a:chOff x="2802600" y="1819080"/>
                    <a:chExt cx="1958400" cy="676080"/>
                  </a:xfrm>
                </p:grpSpPr>
                <p:sp>
                  <p:nvSpPr>
                    <p:cNvPr id="390" name=""/>
                    <p:cNvSpPr/>
                    <p:nvPr/>
                  </p:nvSpPr>
                  <p:spPr>
                    <a:xfrm>
                      <a:off x="285984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Un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1" name=""/>
                    <p:cNvSpPr/>
                    <p:nvPr/>
                  </p:nvSpPr>
                  <p:spPr>
                    <a:xfrm>
                      <a:off x="280260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2" name=""/>
                  <p:cNvGrpSpPr/>
                  <p:nvPr/>
                </p:nvGrpSpPr>
                <p:grpSpPr>
                  <a:xfrm>
                    <a:off x="4761720" y="1819080"/>
                    <a:ext cx="1958400" cy="676080"/>
                    <a:chOff x="4761720" y="1819080"/>
                    <a:chExt cx="1958400" cy="676080"/>
                  </a:xfrm>
                </p:grpSpPr>
                <p:sp>
                  <p:nvSpPr>
                    <p:cNvPr id="393" name=""/>
                    <p:cNvSpPr/>
                    <p:nvPr/>
                  </p:nvSpPr>
                  <p:spPr>
                    <a:xfrm>
                      <a:off x="481896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B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4" name=""/>
                    <p:cNvSpPr/>
                    <p:nvPr/>
                  </p:nvSpPr>
                  <p:spPr>
                    <a:xfrm>
                      <a:off x="476172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5" name=""/>
                  <p:cNvGrpSpPr/>
                  <p:nvPr/>
                </p:nvGrpSpPr>
                <p:grpSpPr>
                  <a:xfrm>
                    <a:off x="6720840" y="1819080"/>
                    <a:ext cx="1958400" cy="676080"/>
                    <a:chOff x="6720840" y="1819080"/>
                    <a:chExt cx="1958400" cy="676080"/>
                  </a:xfrm>
                </p:grpSpPr>
                <p:sp>
                  <p:nvSpPr>
                    <p:cNvPr id="396" name=""/>
                    <p:cNvSpPr/>
                    <p:nvPr/>
                  </p:nvSpPr>
                  <p:spPr>
                    <a:xfrm>
                      <a:off x="677808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ult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7" name=""/>
                    <p:cNvSpPr/>
                    <p:nvPr/>
                  </p:nvSpPr>
                  <p:spPr>
                    <a:xfrm>
                      <a:off x="672084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8" name=""/>
                  <p:cNvGrpSpPr/>
                  <p:nvPr/>
                </p:nvGrpSpPr>
                <p:grpSpPr>
                  <a:xfrm>
                    <a:off x="843840" y="2495520"/>
                    <a:ext cx="1958400" cy="1272960"/>
                    <a:chOff x="843840" y="2495520"/>
                    <a:chExt cx="1958400" cy="1272960"/>
                  </a:xfrm>
                </p:grpSpPr>
                <p:sp>
                  <p:nvSpPr>
                    <p:cNvPr id="399" name=""/>
                    <p:cNvSpPr/>
                    <p:nvPr/>
                  </p:nvSpPr>
                  <p:spPr>
                    <a:xfrm>
                      <a:off x="90108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Estimac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0" name=""/>
                    <p:cNvSpPr/>
                    <p:nvPr/>
                  </p:nvSpPr>
                  <p:spPr>
                    <a:xfrm>
                      <a:off x="84384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1" name=""/>
                  <p:cNvGrpSpPr/>
                  <p:nvPr/>
                </p:nvGrpSpPr>
                <p:grpSpPr>
                  <a:xfrm>
                    <a:off x="2802600" y="2495520"/>
                    <a:ext cx="1958400" cy="1272960"/>
                    <a:chOff x="2802600" y="2495520"/>
                    <a:chExt cx="1958400" cy="1272960"/>
                  </a:xfrm>
                </p:grpSpPr>
                <p:sp>
                  <p:nvSpPr>
                    <p:cNvPr id="402" name=""/>
                    <p:cNvSpPr/>
                    <p:nvPr/>
                  </p:nvSpPr>
                  <p:spPr>
                    <a:xfrm>
                      <a:off x="285984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romedio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Varianza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roporcione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3" name=""/>
                    <p:cNvSpPr/>
                    <p:nvPr/>
                  </p:nvSpPr>
                  <p:spPr>
                    <a:xfrm>
                      <a:off x="280260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4" name=""/>
                  <p:cNvGrpSpPr/>
                  <p:nvPr/>
                </p:nvGrpSpPr>
                <p:grpSpPr>
                  <a:xfrm>
                    <a:off x="4761720" y="2495520"/>
                    <a:ext cx="1958400" cy="1272960"/>
                    <a:chOff x="4761720" y="2495520"/>
                    <a:chExt cx="1958400" cy="1272960"/>
                  </a:xfrm>
                </p:grpSpPr>
                <p:sp>
                  <p:nvSpPr>
                    <p:cNvPr id="405" name=""/>
                    <p:cNvSpPr/>
                    <p:nvPr/>
                  </p:nvSpPr>
                  <p:spPr>
                    <a:xfrm>
                      <a:off x="481896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orrelac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Regres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6" name=""/>
                    <p:cNvSpPr/>
                    <p:nvPr/>
                  </p:nvSpPr>
                  <p:spPr>
                    <a:xfrm>
                      <a:off x="476172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7" name=""/>
                  <p:cNvGrpSpPr/>
                  <p:nvPr/>
                </p:nvGrpSpPr>
                <p:grpSpPr>
                  <a:xfrm>
                    <a:off x="6720840" y="2495520"/>
                    <a:ext cx="1958400" cy="1272960"/>
                    <a:chOff x="6720840" y="2495520"/>
                    <a:chExt cx="1958400" cy="1272960"/>
                  </a:xfrm>
                </p:grpSpPr>
                <p:sp>
                  <p:nvSpPr>
                    <p:cNvPr id="408" name=""/>
                    <p:cNvSpPr/>
                    <p:nvPr/>
                  </p:nvSpPr>
                  <p:spPr>
                    <a:xfrm>
                      <a:off x="677808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ANOVA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Regresión multiple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orrelación canónoca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9" name=""/>
                    <p:cNvSpPr/>
                    <p:nvPr/>
                  </p:nvSpPr>
                  <p:spPr>
                    <a:xfrm>
                      <a:off x="672084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0" name=""/>
                  <p:cNvGrpSpPr/>
                  <p:nvPr/>
                </p:nvGrpSpPr>
                <p:grpSpPr>
                  <a:xfrm>
                    <a:off x="843840" y="3768840"/>
                    <a:ext cx="1958400" cy="1061280"/>
                    <a:chOff x="843840" y="3768840"/>
                    <a:chExt cx="1958400" cy="1061280"/>
                  </a:xfrm>
                </p:grpSpPr>
                <p:sp>
                  <p:nvSpPr>
                    <p:cNvPr id="411" name=""/>
                    <p:cNvSpPr/>
                    <p:nvPr/>
                  </p:nvSpPr>
                  <p:spPr>
                    <a:xfrm>
                      <a:off x="90108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hipotesi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2" name=""/>
                    <p:cNvSpPr/>
                    <p:nvPr/>
                  </p:nvSpPr>
                  <p:spPr>
                    <a:xfrm>
                      <a:off x="84384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3" name=""/>
                  <p:cNvGrpSpPr/>
                  <p:nvPr/>
                </p:nvGrpSpPr>
                <p:grpSpPr>
                  <a:xfrm>
                    <a:off x="2802600" y="3768840"/>
                    <a:ext cx="1958400" cy="1061280"/>
                    <a:chOff x="2802600" y="3768840"/>
                    <a:chExt cx="1958400" cy="1061280"/>
                  </a:xfrm>
                </p:grpSpPr>
                <p:sp>
                  <p:nvSpPr>
                    <p:cNvPr id="414" name=""/>
                    <p:cNvSpPr/>
                    <p:nvPr/>
                  </p:nvSpPr>
                  <p:spPr>
                    <a:xfrm>
                      <a:off x="285984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5" name=""/>
                    <p:cNvSpPr/>
                    <p:nvPr/>
                  </p:nvSpPr>
                  <p:spPr>
                    <a:xfrm>
                      <a:off x="280260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6" name=""/>
                  <p:cNvGrpSpPr/>
                  <p:nvPr/>
                </p:nvGrpSpPr>
                <p:grpSpPr>
                  <a:xfrm>
                    <a:off x="4761720" y="3768840"/>
                    <a:ext cx="1958400" cy="1061280"/>
                    <a:chOff x="4761720" y="3768840"/>
                    <a:chExt cx="1958400" cy="1061280"/>
                  </a:xfrm>
                </p:grpSpPr>
                <p:sp>
                  <p:nvSpPr>
                    <p:cNvPr id="417" name=""/>
                    <p:cNvSpPr/>
                    <p:nvPr/>
                  </p:nvSpPr>
                  <p:spPr>
                    <a:xfrm>
                      <a:off x="481896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comparación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significación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8" name=""/>
                    <p:cNvSpPr/>
                    <p:nvPr/>
                  </p:nvSpPr>
                  <p:spPr>
                    <a:xfrm>
                      <a:off x="476172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9" name=""/>
                  <p:cNvGrpSpPr/>
                  <p:nvPr/>
                </p:nvGrpSpPr>
                <p:grpSpPr>
                  <a:xfrm>
                    <a:off x="6720840" y="3768840"/>
                    <a:ext cx="1958400" cy="1061280"/>
                    <a:chOff x="6720840" y="3768840"/>
                    <a:chExt cx="1958400" cy="1061280"/>
                  </a:xfrm>
                </p:grpSpPr>
                <p:sp>
                  <p:nvSpPr>
                    <p:cNvPr id="420" name=""/>
                    <p:cNvSpPr/>
                    <p:nvPr/>
                  </p:nvSpPr>
                  <p:spPr>
                    <a:xfrm>
                      <a:off x="677808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ANOVA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Discriminante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anónico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1" name=""/>
                    <p:cNvSpPr/>
                    <p:nvPr/>
                  </p:nvSpPr>
                  <p:spPr>
                    <a:xfrm>
                      <a:off x="672084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2" name=""/>
                  <p:cNvGrpSpPr/>
                  <p:nvPr/>
                </p:nvGrpSpPr>
                <p:grpSpPr>
                  <a:xfrm>
                    <a:off x="843840" y="4830480"/>
                    <a:ext cx="1958400" cy="1640520"/>
                    <a:chOff x="843840" y="4830480"/>
                    <a:chExt cx="1958400" cy="1640520"/>
                  </a:xfrm>
                </p:grpSpPr>
                <p:sp>
                  <p:nvSpPr>
                    <p:cNvPr id="423" name=""/>
                    <p:cNvSpPr/>
                    <p:nvPr/>
                  </p:nvSpPr>
                  <p:spPr>
                    <a:xfrm>
                      <a:off x="90108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étodos no parametrico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4" name=""/>
                    <p:cNvSpPr/>
                    <p:nvPr/>
                  </p:nvSpPr>
                  <p:spPr>
                    <a:xfrm>
                      <a:off x="84384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5" name=""/>
                  <p:cNvGrpSpPr/>
                  <p:nvPr/>
                </p:nvGrpSpPr>
                <p:grpSpPr>
                  <a:xfrm>
                    <a:off x="2802600" y="4830480"/>
                    <a:ext cx="1958400" cy="1640520"/>
                    <a:chOff x="2802600" y="4830480"/>
                    <a:chExt cx="1958400" cy="1640520"/>
                  </a:xfrm>
                </p:grpSpPr>
                <p:sp>
                  <p:nvSpPr>
                    <p:cNvPr id="426" name=""/>
                    <p:cNvSpPr/>
                    <p:nvPr/>
                  </p:nvSpPr>
                  <p:spPr>
                    <a:xfrm>
                      <a:off x="285984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7" name=""/>
                    <p:cNvSpPr/>
                    <p:nvPr/>
                  </p:nvSpPr>
                  <p:spPr>
                    <a:xfrm>
                      <a:off x="280260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8" name=""/>
                  <p:cNvGrpSpPr/>
                  <p:nvPr/>
                </p:nvGrpSpPr>
                <p:grpSpPr>
                  <a:xfrm>
                    <a:off x="4761720" y="4830480"/>
                    <a:ext cx="1958400" cy="1640520"/>
                    <a:chOff x="4761720" y="4830480"/>
                    <a:chExt cx="1958400" cy="1640520"/>
                  </a:xfrm>
                </p:grpSpPr>
                <p:sp>
                  <p:nvSpPr>
                    <p:cNvPr id="429" name=""/>
                    <p:cNvSpPr/>
                    <p:nvPr/>
                  </p:nvSpPr>
                  <p:spPr>
                    <a:xfrm>
                      <a:off x="481896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0" name=""/>
                    <p:cNvSpPr/>
                    <p:nvPr/>
                  </p:nvSpPr>
                  <p:spPr>
                    <a:xfrm>
                      <a:off x="476172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31" name=""/>
                  <p:cNvGrpSpPr/>
                  <p:nvPr/>
                </p:nvGrpSpPr>
                <p:grpSpPr>
                  <a:xfrm>
                    <a:off x="6720840" y="4830480"/>
                    <a:ext cx="1958400" cy="1640520"/>
                    <a:chOff x="6720840" y="4830480"/>
                    <a:chExt cx="1958400" cy="1640520"/>
                  </a:xfrm>
                </p:grpSpPr>
                <p:sp>
                  <p:nvSpPr>
                    <p:cNvPr id="432" name=""/>
                    <p:cNvSpPr/>
                    <p:nvPr/>
                  </p:nvSpPr>
                  <p:spPr>
                    <a:xfrm>
                      <a:off x="677808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3" name=""/>
                    <p:cNvSpPr/>
                    <p:nvPr/>
                  </p:nvSpPr>
                  <p:spPr>
                    <a:xfrm>
                      <a:off x="672084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434" name=""/>
                <p:cNvSpPr/>
                <p:nvPr/>
              </p:nvSpPr>
              <p:spPr>
                <a:xfrm>
                  <a:off x="838080" y="1814400"/>
                  <a:ext cx="7848360" cy="4662360"/>
                </a:xfrm>
                <a:prstGeom prst="rect">
                  <a:avLst/>
                </a:prstGeom>
                <a:noFill/>
                <a:ln w="111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35" name=""/>
              <p:cNvSpPr/>
              <p:nvPr/>
            </p:nvSpPr>
            <p:spPr>
              <a:xfrm>
                <a:off x="2895480" y="3792600"/>
                <a:ext cx="1981440" cy="70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Test Conformidad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Test Significación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6858000" y="5181480"/>
                <a:ext cx="1676520" cy="132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Kernell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Redes neuronales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4952880" y="5257800"/>
                <a:ext cx="1676520" cy="10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Spearman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Kendall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4E885-74F0-4A65-BB0B-E354491EB4FB}" type="slidenum">
              <a:t>30</a:t>
            </a:fld>
          </a:p>
        </p:txBody>
      </p:sp>
    </p:spTree>
  </p:cSld>
  <p:transition>
    <p:random/>
  </p:transition>
  <p:timing>
    <p:tnLst>
      <p:par>
        <p:cTn id="905" dur="indefinite" restart="never" nodeType="tmRoot">
          <p:childTnLst>
            <p:seq>
              <p:cTn id="906" dur="indefinite" nodeType="mainSeq">
                <p:childTnLst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1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2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/>
          <p:nvPr/>
        </p:nvSpPr>
        <p:spPr>
          <a:xfrm>
            <a:off x="0" y="304920"/>
            <a:ext cx="9144000" cy="668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507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507960">
              <a:lnSpc>
                <a:spcPct val="100000"/>
              </a:lnSpc>
              <a:spcBef>
                <a:spcPts val="1500"/>
              </a:spcBef>
              <a:buClr>
                <a:srgbClr val="d20000"/>
              </a:buClr>
              <a:buFont typeface="Comic Sans MS"/>
              <a:buAutoNum type="romanU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CONCLU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a investigación (por encuesta o por experimentación) debe ser objeto de una rigurosa planificación “Investigamos o vamos a la playa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Rol de la estadística en la investigación científica es central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Ningún análisis estadístico “elaborado” no merece ser realizado para datos de mala calida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uidado!!!! Con la utilización de los paquetes estadísticos cada vez mas al alcance de los no especialist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a necesidad de un trabajo coordinado “investigador - estadístico”, debiera ser una práctica corriente en la investigación científica responsable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Importancia de los servicios de apoyo en aspectos cuantitativos al interior de los centros de investigación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1362B-E790-4450-9FD0-8B7E68CF496F}" type="slidenum">
              <a:t>31</a:t>
            </a:fld>
          </a:p>
        </p:txBody>
      </p:sp>
    </p:spTree>
  </p:cSld>
  <p:transition spd="slow">
    <p:zoom dir="in"/>
  </p:transition>
  <p:timing>
    <p:tnLst>
      <p:par>
        <p:cTn id="926" dur="indefinite" restart="never" nodeType="tmRoot">
          <p:childTnLst>
            <p:seq>
              <p:cTn id="927" dur="indefinite" nodeType="mainSeq">
                <p:childTnLst>
                  <p:par>
                    <p:cTn id="928" fill="hold">
                      <p:stCondLst>
                        <p:cond delay="0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2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/>
          <p:nvPr/>
        </p:nvSpPr>
        <p:spPr>
          <a:xfrm>
            <a:off x="0" y="304920"/>
            <a:ext cx="914400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507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50796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EJEMPLO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16000" y="2421000"/>
            <a:ext cx="9144000" cy="23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48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48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Evaluar el rendimiento académico en la Facultad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48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de Ciencias y Tecnología de la UMS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4C620-4220-4576-8775-7D844C1D0C6C}" type="slidenum">
              <a:t>32</a:t>
            </a:fld>
          </a:p>
        </p:txBody>
      </p:sp>
    </p:spTree>
  </p:cSld>
  <p:transition spd="slow">
    <p:zoom dir="in"/>
  </p:transition>
  <p:timing>
    <p:tnLst>
      <p:par>
        <p:cTn id="934" dur="indefinite" restart="never" nodeType="tmRoot">
          <p:childTnLst>
            <p:seq>
              <p:cTn id="935" dur="indefinite" nodeType="mainSeq">
                <p:childTnLst>
                  <p:par>
                    <p:cTn id="936" fill="hold">
                      <p:stCondLst>
                        <p:cond delay="0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2" fill="hold">
                            <p:stCondLst>
                              <p:cond delay="500"/>
                            </p:stCondLst>
                            <p:childTnLst>
                              <p:par>
                                <p:cTn id="9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5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/>
          <p:nvPr/>
        </p:nvSpPr>
        <p:spPr>
          <a:xfrm>
            <a:off x="152280" y="152280"/>
            <a:ext cx="593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jemplo: </a:t>
            </a:r>
            <a:r>
              <a:rPr b="0" lang="es-ES_tradnl" sz="2400" spc="-1" strike="noStrike">
                <a:solidFill>
                  <a:srgbClr val="d20000"/>
                </a:solidFill>
                <a:latin typeface="Times New Roman"/>
              </a:rPr>
              <a:t>MATRIZ MAPIC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52280" y="609480"/>
            <a:ext cx="899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valuación del rendimiento académico en la Facultad de Humanidad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04920" y="112716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Resultados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828800" y="127944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886200" y="1219320"/>
            <a:ext cx="23623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Método de colect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990099"/>
                </a:solidFill>
                <a:latin typeface="Times New Roman"/>
              </a:rPr>
              <a:t>(Fuentes de colecta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446" name=""/>
          <p:cNvGrpSpPr/>
          <p:nvPr/>
        </p:nvGrpSpPr>
        <p:grpSpPr>
          <a:xfrm>
            <a:off x="304920" y="1066680"/>
            <a:ext cx="8610480" cy="5562720"/>
            <a:chOff x="304920" y="1066680"/>
            <a:chExt cx="8610480" cy="5562720"/>
          </a:xfrm>
        </p:grpSpPr>
        <p:sp>
          <p:nvSpPr>
            <p:cNvPr id="447" name=""/>
            <p:cNvSpPr/>
            <p:nvPr/>
          </p:nvSpPr>
          <p:spPr>
            <a:xfrm>
              <a:off x="304920" y="1066680"/>
              <a:ext cx="8610480" cy="5562720"/>
            </a:xfrm>
            <a:prstGeom prst="rect">
              <a:avLst/>
            </a:prstGeom>
            <a:noFill/>
            <a:ln w="572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0384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9810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0958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04920" y="198108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84872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04920" y="342900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04920" y="533412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943600" y="112716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Método Estadíst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8153280" y="1081080"/>
            <a:ext cx="457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990099"/>
                </a:solidFill>
                <a:latin typeface="Times New Roman"/>
              </a:rPr>
              <a:t>n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04920" y="2057400"/>
            <a:ext cx="1752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Estimar el rendimiento promedio de la materia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04920" y="3505320"/>
            <a:ext cx="17524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Identificación de factores que inciden en el rendimiento académ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04920" y="5257800"/>
            <a:ext cx="1752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Comparación del rendimiento por sex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905120" y="2209680"/>
            <a:ext cx="2133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X1: Rendimient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(Cualit. Ordinal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1930320" y="3429000"/>
            <a:ext cx="2286000" cy="21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1: Rendimient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2: hrs. de estudio en  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       </a:t>
            </a: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la casa por día 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3: Sex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4: Tipo de Colegi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5: Eda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800600" y="3429000"/>
            <a:ext cx="2286000" cy="19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Entrevist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Encuest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3962520" y="3581280"/>
            <a:ext cx="76176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4038480" y="39625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038480" y="457200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038480" y="48769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962520" y="5181480"/>
            <a:ext cx="76176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572360" y="2286000"/>
            <a:ext cx="13266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visión de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886200" y="25909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172200" y="2209680"/>
            <a:ext cx="1752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Intervalo de confianza de un promedi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6095880" y="3962520"/>
            <a:ext cx="1752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Regresión Logística Ordina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5867280" y="5562720"/>
            <a:ext cx="221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- Mann-Whitney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095880" y="5943600"/>
            <a:ext cx="175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- Paramétr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978920" y="5545080"/>
            <a:ext cx="182376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1: Rendimiento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X5: Eda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FCF8F-50E9-4CD7-B0CC-2C4A7CCD5AB6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7" dur="indefinite" restart="never" nodeType="tmRoot">
          <p:childTnLst>
            <p:seq>
              <p:cTn id="948" dur="indefinite" nodeType="mainSeq">
                <p:childTnLst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4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3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6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1" dur="77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72" dur="770" fill="hold"/>
                                        <p:tgtEl>
                                          <p:spTgt spid="44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74" dur="77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76" dur="77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7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77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81" dur="770" fill="hold"/>
                                        <p:tgtEl>
                                          <p:spTgt spid="45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83" dur="77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85" dur="77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8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9" dur="77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0" dur="770" fill="hold"/>
                                        <p:tgtEl>
                                          <p:spTgt spid="45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92" dur="77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94" dur="77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9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8" dur="77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9" dur="770" fill="hold"/>
                                        <p:tgtEl>
                                          <p:spTgt spid="45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01" dur="77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03" dur="77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9" dur="77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0" dur="770" fill="hold"/>
                                        <p:tgtEl>
                                          <p:spTgt spid="44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12" dur="77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14" dur="77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77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9" dur="770" fill="hold"/>
                                        <p:tgtEl>
                                          <p:spTgt spid="46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21" dur="77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23" dur="77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2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7" dur="77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28" dur="770" fill="hold"/>
                                        <p:tgtEl>
                                          <p:spTgt spid="46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30" dur="77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32" dur="77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3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6" dur="77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37" dur="770" fill="hold"/>
                                        <p:tgtEl>
                                          <p:spTgt spid="47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39" dur="77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41" dur="77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77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8" dur="770" fill="hold"/>
                                        <p:tgtEl>
                                          <p:spTgt spid="44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50" dur="77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52" dur="77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58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9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1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2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4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5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7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8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70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73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6" dur="77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77" dur="770" fill="hold"/>
                                        <p:tgtEl>
                                          <p:spTgt spid="46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79" dur="77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81" dur="77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8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5" dur="77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86" dur="770" fill="hold"/>
                                        <p:tgtEl>
                                          <p:spTgt spid="46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88" dur="77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90" dur="77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6" dur="77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97" dur="770" fill="hold"/>
                                        <p:tgtEl>
                                          <p:spTgt spid="45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99" dur="77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01" dur="77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0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5" dur="77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06" dur="770" fill="hold"/>
                                        <p:tgtEl>
                                          <p:spTgt spid="47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08" dur="77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0" dur="77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1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4" dur="77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15" dur="770" fill="hold"/>
                                        <p:tgtEl>
                                          <p:spTgt spid="47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17" dur="77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9" dur="77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2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3" dur="77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24" dur="770" fill="hold"/>
                                        <p:tgtEl>
                                          <p:spTgt spid="47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26" dur="77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28" dur="77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3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2" dur="77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33" dur="770" fill="hold"/>
                                        <p:tgtEl>
                                          <p:spTgt spid="47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35" dur="77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37" dur="77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9" fill="hold">
                      <p:stCondLst>
                        <p:cond delay="indefinite"/>
                      </p:stCondLst>
                      <p:childTnLst>
                        <p:par>
                          <p:cTn id="1140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3" dur="77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44" dur="770" fill="hold"/>
                                        <p:tgtEl>
                                          <p:spTgt spid="45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46" dur="77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48" dur="77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8762760" cy="36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800" spc="-1" strike="noStrike">
                <a:solidFill>
                  <a:srgbClr val="35cd35"/>
                </a:solidFill>
                <a:latin typeface="Comic Sans MS"/>
              </a:rPr>
              <a:t>GRACIAS POR SU ATENCION!!!!</a:t>
            </a:r>
            <a:br>
              <a:rPr sz="3600"/>
            </a:br>
            <a:br>
              <a:rPr sz="3600"/>
            </a:br>
            <a:r>
              <a:rPr b="0" i="1" lang="es-ES_tradnl" sz="3200" spc="-1" strike="noStrike">
                <a:solidFill>
                  <a:srgbClr val="35cd35"/>
                </a:solidFill>
                <a:latin typeface="Comic Sans MS"/>
              </a:rPr>
              <a:t>CENTRO DE ESTADISTICA APLICADA</a:t>
            </a:r>
            <a:br>
              <a:rPr sz="3200"/>
            </a:br>
            <a:r>
              <a:rPr b="0" i="1" lang="es-ES_tradnl" sz="3200" spc="-1" strike="noStrike">
                <a:solidFill>
                  <a:srgbClr val="35cd35"/>
                </a:solidFill>
                <a:latin typeface="Comic Sans MS"/>
              </a:rPr>
              <a:t>CONVENIO CIUF- UMSS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476" name="" descr=""/>
          <p:cNvPicPr/>
          <p:nvPr/>
        </p:nvPicPr>
        <p:blipFill>
          <a:blip r:embed="rId1"/>
          <a:stretch/>
        </p:blipFill>
        <p:spPr>
          <a:xfrm>
            <a:off x="1498680" y="4687920"/>
            <a:ext cx="2065320" cy="1765440"/>
          </a:xfrm>
          <a:prstGeom prst="rect">
            <a:avLst/>
          </a:prstGeom>
          <a:ln w="0">
            <a:noFill/>
          </a:ln>
        </p:spPr>
      </p:pic>
      <p:pic>
        <p:nvPicPr>
          <p:cNvPr id="477" name="" descr=""/>
          <p:cNvPicPr/>
          <p:nvPr/>
        </p:nvPicPr>
        <p:blipFill>
          <a:blip r:embed="rId2"/>
          <a:stretch/>
        </p:blipFill>
        <p:spPr>
          <a:xfrm>
            <a:off x="5778360" y="4664160"/>
            <a:ext cx="2322720" cy="17892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34292-9B31-424D-A75D-805C7EAD3F10}" type="slidenum">
              <a:t>34</a:t>
            </a:fld>
          </a:p>
        </p:txBody>
      </p:sp>
    </p:spTree>
  </p:cSld>
  <p:transition spd="slow">
    <p:zoom dir="in"/>
  </p:transition>
  <p:timing>
    <p:tnLst>
      <p:par>
        <p:cTn id="1150" dur="indefinite" restart="never" nodeType="tmRoot">
          <p:childTnLst>
            <p:seq>
              <p:cTn id="1151" dur="indefinite" nodeType="mainSeq">
                <p:childTnLst>
                  <p:par>
                    <p:cTn id="1152" fill="hold">
                      <p:stCondLst>
                        <p:cond delay="indefinite"/>
                      </p:stCondLst>
                      <p:childTnLst>
                        <p:par>
                          <p:cTn id="1153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6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7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9" dur="3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4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5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7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0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066680" y="2425680"/>
            <a:ext cx="228600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COLECTA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95680" y="2422440"/>
            <a:ext cx="2286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251460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429000" y="304812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9480" y="914400"/>
            <a:ext cx="82296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Times New Roman"/>
              </a:rPr>
              <a:t>II. BASES METODOLOGICAS PARA EL DISEÑO DE LA INVESTIG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8F492-D166-4123-9B6F-7719AFFB9DB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500"/>
                            </p:stCondLst>
                            <p:childTnLst>
                              <p:par>
                                <p:cTn id="7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3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533520" y="304920"/>
            <a:ext cx="8762760" cy="52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PROBLEMAS DE PLANIFICAC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          </a:t>
            </a: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OBSERV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objetivos -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Resultados 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Unidades de Observación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y de 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Pobl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de un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de Colecta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de datos (Cualitativo – Cuantitativo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Plan de Muestre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Tamaño de la Muestr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y esbozo</a:t>
            </a:r>
            <a:r>
              <a:rPr b="1" lang="es-MX" sz="20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Estadíst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038A0-2B8F-418E-8389-2A80B93C3E15}" type="slidenum">
              <a:t>5</a:t>
            </a:fld>
          </a:p>
        </p:txBody>
      </p:sp>
    </p:spTree>
  </p:cSld>
  <p:transition spd="med">
    <p:checker dir="horz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533520" y="304920"/>
            <a:ext cx="8762760" cy="479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PROBLEMAS EN INVESTIGAC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          </a:t>
            </a: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Resultados  Esperados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y condiciones experimentale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ES_tradnl" sz="2000" spc="-1" strike="noStrike">
                <a:solidFill>
                  <a:srgbClr val="35cd35"/>
                </a:solidFill>
                <a:latin typeface="Comic Sans MS"/>
              </a:rPr>
              <a:t>Factores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Unidades Experimenta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Observaciones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(variable de respuesta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Diseño Experimental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Matemático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DA1CC-19BB-4158-A335-2AEE3BBE8CC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533520" y="304920"/>
            <a:ext cx="8762760" cy="39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BASES METODOLOGICAS PARA EL DISEÑO DE LA INVESTIG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OBSERV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493B9-2BA9-419F-8AF0-69A944A8622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85800" y="1628640"/>
            <a:ext cx="7467480" cy="49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Modelo conceptual – Resultados esp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Objetivos – Resultados Esp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ecesidad de inform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l resultado esperado puede estar formulado bajo la forma de 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REGUNTA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o 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RESPUESTA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(hipótesis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l finalizar esta etapa se dispone: Lista de resultados 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R</a:t>
            </a:r>
            <a:r>
              <a:rPr b="0" lang="es-ES" sz="2400" spc="-1" strike="noStrike" baseline="-25000">
                <a:solidFill>
                  <a:srgbClr val="0000ff"/>
                </a:solidFill>
                <a:latin typeface="Comic Sans MS"/>
              </a:rPr>
              <a:t>i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005120" y="623880"/>
            <a:ext cx="755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1. DEFINICIÓN DE RESULTADOS ESPERA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4D81B-4C73-4FBC-B7B0-F434C9E926D8}" type="slidenum">
              <a:t>8</a:t>
            </a:fld>
          </a:p>
        </p:txBody>
      </p:sp>
    </p:spTree>
  </p:cSld>
  <p:transition>
    <p:random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09480" y="228600"/>
            <a:ext cx="815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2. DEFINICIÓN DE LA POBLACIÓN Y UNIDADES DE OBSERVACIÓ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52640" y="1844640"/>
            <a:ext cx="884232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Conjunto de “individuos” a los cuales nos interesam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Población finita o infinit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08800" y="3957480"/>
            <a:ext cx="849168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Unidades de observ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“Individuos” que son observ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Ejemplo: Personas, familias, empresas, marcas,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C10FB-41E6-41AB-9421-8741204252F1}" type="slidenum">
              <a:t>9</a:t>
            </a:fld>
          </a:p>
        </p:txBody>
      </p:sp>
    </p:spTree>
  </p:cSld>
  <p:transition>
    <p:random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3T19:04:21Z</dcterms:created>
  <dc:creator>Usuario Privado</dc:creator>
  <dc:description/>
  <dc:language>en-US</dc:language>
  <cp:lastModifiedBy>CESA</cp:lastModifiedBy>
  <dcterms:modified xsi:type="dcterms:W3CDTF">2004-05-25T19:26:43Z</dcterms:modified>
  <cp:revision>133</cp:revision>
  <dc:subject/>
  <dc:title>ROL DE LA ESTADISTICA APLICADA EN INVESTIGACION CIENTIFICA</dc:title>
</cp:coreProperties>
</file>